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0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8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6433-EA28-4B27-968C-FE6FBE86D4A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7BF3-75B3-4C29-9F6E-1141BBC2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48C3-8DCD-4613-AC9E-60D44F99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6459-F790-4D7C-8146-83B5E7C8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79796-7D4A-4F18-A9AA-9D2FFC3C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C5C34-374E-4AF2-9C51-31E45AD4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97B0B-39D3-4789-9001-EDB8F14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7DE98-997B-48C3-AFEE-0698BBAB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36B1C-7B33-4B9A-B8A0-9816FB6D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317CC-DF70-4C2E-9B26-38879C03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B708F-E433-4CA9-8DC5-2547376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5ECFA-46F4-444F-ADE4-41F3D994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623C3-7F8E-4DAF-8BA7-0DB652D7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A689D-3916-4E1B-8E42-A7E58D8A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898A8-685A-4A64-AAF6-0B6A8A4D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00176-25B0-4EAC-9D3B-04231567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16ED-81B3-4E45-94EA-AEE146E2B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vs.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basic ways to store and manage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, in direct proportion to the data repres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 on a record album - a needle rides on ridges in the grooves that are directly proportional to the voltages sent to the spe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ormation is broken down into pieces, and each piece is represented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mpl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record discrete values of the analog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ic on a compact disc - the disc stores numbers representing specific voltage levels sampled at specific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685800" y="1447920"/>
            <a:ext cx="7696080" cy="3809880"/>
            <a:chOff x="685800" y="1447920"/>
            <a:chExt cx="7696080" cy="3809880"/>
          </a:xfrm>
        </p:grpSpPr>
        <p:sp>
          <p:nvSpPr>
            <p:cNvPr id="156" name="TextBox 5"/>
            <p:cNvSpPr/>
            <p:nvPr/>
          </p:nvSpPr>
          <p:spPr>
            <a:xfrm>
              <a:off x="685800" y="1447920"/>
              <a:ext cx="7696080" cy="380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5" descr="fig01_03.tif"/>
            <p:cNvPicPr/>
            <p:nvPr/>
          </p:nvPicPr>
          <p:blipFill>
            <a:blip r:embed="rId1"/>
            <a:stretch/>
          </p:blipFill>
          <p:spPr>
            <a:xfrm>
              <a:off x="990360" y="1828800"/>
              <a:ext cx="7115400" cy="2895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1371600" y="1219320"/>
            <a:ext cx="5943600" cy="5029200"/>
            <a:chOff x="1371600" y="1219320"/>
            <a:chExt cx="5943600" cy="5029200"/>
          </a:xfrm>
        </p:grpSpPr>
        <p:sp>
          <p:nvSpPr>
            <p:cNvPr id="161" name="TextBox 5"/>
            <p:cNvSpPr/>
            <p:nvPr/>
          </p:nvSpPr>
          <p:spPr>
            <a:xfrm>
              <a:off x="1371600" y="1219320"/>
              <a:ext cx="5943600" cy="502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6" descr="fig01_04.tif"/>
            <p:cNvPicPr/>
            <p:nvPr/>
          </p:nvPicPr>
          <p:blipFill>
            <a:blip r:embed="rId1"/>
            <a:stretch/>
          </p:blipFill>
          <p:spPr>
            <a:xfrm>
              <a:off x="1904760" y="1523880"/>
              <a:ext cx="4800600" cy="4538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gital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 store all information digit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and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way, all informa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git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roken down into pieces and represented as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ing Text Digit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every character is stored as a number, including spaces, digits, and punc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upper and lower case letters are separat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2615040" y="3733920"/>
            <a:ext cx="3778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 Unicode MS"/>
              </a:rPr>
              <a:t>H i ,   H e a t h e 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914400" y="4267080"/>
            <a:ext cx="6858000" cy="1464480"/>
            <a:chOff x="914400" y="4267080"/>
            <a:chExt cx="6858000" cy="1464480"/>
          </a:xfrm>
        </p:grpSpPr>
        <p:sp>
          <p:nvSpPr>
            <p:cNvPr id="171" name="Rectangle 6"/>
            <p:cNvSpPr/>
            <p:nvPr/>
          </p:nvSpPr>
          <p:spPr>
            <a:xfrm>
              <a:off x="914400" y="5334120"/>
              <a:ext cx="6858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72   105   44   32   72   101   97   116   104   101   114   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 flipV="1">
              <a:off x="1296000" y="4267080"/>
              <a:ext cx="145116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V="1">
              <a:off x="2286000" y="4343040"/>
              <a:ext cx="91980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191560" y="4267080"/>
              <a:ext cx="38160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0"/>
            <p:cNvSpPr/>
            <p:nvPr/>
          </p:nvSpPr>
          <p:spPr>
            <a:xfrm>
              <a:off x="6031800" y="4267080"/>
              <a:ext cx="137484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1"/>
            <p:cNvSpPr/>
            <p:nvPr/>
          </p:nvSpPr>
          <p:spPr>
            <a:xfrm flipV="1">
              <a:off x="3276720" y="4267080"/>
              <a:ext cx="53316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2"/>
            <p:cNvSpPr/>
            <p:nvPr/>
          </p:nvSpPr>
          <p:spPr>
            <a:xfrm flipV="1">
              <a:off x="4428000" y="4343040"/>
              <a:ext cx="6768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"/>
            <p:cNvSpPr/>
            <p:nvPr/>
          </p:nvSpPr>
          <p:spPr>
            <a:xfrm flipV="1">
              <a:off x="1828800" y="4343040"/>
              <a:ext cx="114300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 flipV="1">
              <a:off x="2819160" y="4267080"/>
              <a:ext cx="68580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 flipV="1">
              <a:off x="3886200" y="4343040"/>
              <a:ext cx="30456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"/>
            <p:cNvSpPr/>
            <p:nvPr/>
          </p:nvSpPr>
          <p:spPr>
            <a:xfrm flipH="1" flipV="1">
              <a:off x="4876560" y="4343040"/>
              <a:ext cx="75960" cy="99072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 flipH="1" flipV="1">
              <a:off x="5486040" y="4267080"/>
              <a:ext cx="68580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 flipH="1" flipV="1">
              <a:off x="5790960" y="4267080"/>
              <a:ext cx="1066680" cy="1067040"/>
            </a:xfrm>
            <a:prstGeom prst="line">
              <a:avLst/>
            </a:prstGeom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nar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information has been digitized, it is represented and stored in memory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binary digit (0 or 1)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 that store and move information are cheaper and more reliable if they have to represent only two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bit can represent two possible states, like a light bulb that is either on (1) or off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utations of bits are used to stor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t Permu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29520" y="1371600"/>
            <a:ext cx="857160" cy="1268280"/>
            <a:chOff x="929520" y="1371600"/>
            <a:chExt cx="857160" cy="1268280"/>
          </a:xfrm>
        </p:grpSpPr>
        <p:sp>
          <p:nvSpPr>
            <p:cNvPr id="189" name="Rectangle 4"/>
            <p:cNvSpPr/>
            <p:nvPr/>
          </p:nvSpPr>
          <p:spPr>
            <a:xfrm>
              <a:off x="929520" y="1371600"/>
              <a:ext cx="85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1 b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1140120" y="1814400"/>
              <a:ext cx="35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6"/>
          <p:cNvGrpSpPr/>
          <p:nvPr/>
        </p:nvGrpSpPr>
        <p:grpSpPr>
          <a:xfrm>
            <a:off x="2401560" y="1371600"/>
            <a:ext cx="1008000" cy="1999800"/>
            <a:chOff x="2401560" y="1371600"/>
            <a:chExt cx="1008000" cy="1999800"/>
          </a:xfrm>
        </p:grpSpPr>
        <p:sp>
          <p:nvSpPr>
            <p:cNvPr id="192" name="Rectangle 7"/>
            <p:cNvSpPr/>
            <p:nvPr/>
          </p:nvSpPr>
          <p:spPr>
            <a:xfrm>
              <a:off x="2401560" y="1371600"/>
              <a:ext cx="100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2 b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2607480" y="1814400"/>
              <a:ext cx="528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9"/>
          <p:cNvGrpSpPr/>
          <p:nvPr/>
        </p:nvGrpSpPr>
        <p:grpSpPr>
          <a:xfrm>
            <a:off x="3990960" y="1371600"/>
            <a:ext cx="1008000" cy="3462840"/>
            <a:chOff x="3990960" y="1371600"/>
            <a:chExt cx="1008000" cy="3462840"/>
          </a:xfrm>
        </p:grpSpPr>
        <p:sp>
          <p:nvSpPr>
            <p:cNvPr id="195" name="Rectangle 10"/>
            <p:cNvSpPr/>
            <p:nvPr/>
          </p:nvSpPr>
          <p:spPr>
            <a:xfrm>
              <a:off x="3990960" y="1371600"/>
              <a:ext cx="100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3 b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4134960" y="1814400"/>
              <a:ext cx="7020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Unicode MS"/>
                </a:rPr>
                <a:t>1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5616720" y="1371600"/>
            <a:ext cx="1942200" cy="3462840"/>
            <a:chOff x="5616720" y="1371600"/>
            <a:chExt cx="1942200" cy="3462840"/>
          </a:xfrm>
        </p:grpSpPr>
        <p:sp>
          <p:nvSpPr>
            <p:cNvPr id="198" name="Rectangle 13"/>
            <p:cNvSpPr/>
            <p:nvPr/>
          </p:nvSpPr>
          <p:spPr>
            <a:xfrm>
              <a:off x="6065640" y="1371600"/>
              <a:ext cx="100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4 b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4"/>
            <p:cNvGrpSpPr/>
            <p:nvPr/>
          </p:nvGrpSpPr>
          <p:grpSpPr>
            <a:xfrm>
              <a:off x="5616720" y="1814400"/>
              <a:ext cx="1942200" cy="3020040"/>
              <a:chOff x="5616720" y="1814400"/>
              <a:chExt cx="1942200" cy="3020040"/>
            </a:xfrm>
          </p:grpSpPr>
          <p:sp>
            <p:nvSpPr>
              <p:cNvPr id="200" name="Text Box 15"/>
              <p:cNvSpPr/>
              <p:nvPr/>
            </p:nvSpPr>
            <p:spPr>
              <a:xfrm>
                <a:off x="5616720" y="1814400"/>
                <a:ext cx="87552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01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6"/>
              <p:cNvSpPr/>
              <p:nvPr/>
            </p:nvSpPr>
            <p:spPr>
              <a:xfrm>
                <a:off x="6683400" y="1814400"/>
                <a:ext cx="87552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11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7"/>
          <p:cNvSpPr/>
          <p:nvPr/>
        </p:nvSpPr>
        <p:spPr>
          <a:xfrm>
            <a:off x="501840" y="5183280"/>
            <a:ext cx="84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Each additional bit doubles the number of possible per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t Permu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21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mutation can represent a particular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mutations of N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N bits are needed to represent 2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qu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4"/>
          <p:cNvGrpSpPr/>
          <p:nvPr/>
        </p:nvGrpSpPr>
        <p:grpSpPr>
          <a:xfrm>
            <a:off x="5788800" y="3311640"/>
            <a:ext cx="1977480" cy="2658600"/>
            <a:chOff x="5788800" y="3311640"/>
            <a:chExt cx="1977480" cy="2658600"/>
          </a:xfrm>
        </p:grpSpPr>
        <p:sp>
          <p:nvSpPr>
            <p:cNvPr id="207" name="Text Box 4"/>
            <p:cNvSpPr/>
            <p:nvPr/>
          </p:nvSpPr>
          <p:spPr>
            <a:xfrm>
              <a:off x="5808240" y="3311640"/>
              <a:ext cx="1793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1</a:t>
              </a:r>
              <a:r>
                <a:rPr b="1" lang="en-US" sz="2400" spc="-1" strike="noStrike" baseline="30000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=  2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"/>
            <p:cNvSpPr/>
            <p:nvPr/>
          </p:nvSpPr>
          <p:spPr>
            <a:xfrm>
              <a:off x="5792400" y="3854520"/>
              <a:ext cx="179316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30000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=  4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6"/>
            <p:cNvSpPr/>
            <p:nvPr/>
          </p:nvSpPr>
          <p:spPr>
            <a:xfrm>
              <a:off x="5788800" y="4398840"/>
              <a:ext cx="18252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 =  8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7"/>
            <p:cNvSpPr/>
            <p:nvPr/>
          </p:nvSpPr>
          <p:spPr>
            <a:xfrm>
              <a:off x="5788800" y="4942080"/>
              <a:ext cx="1977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 =  16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5788800" y="5486400"/>
              <a:ext cx="19774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</a:t>
              </a:r>
              <a:r>
                <a:rPr b="1" lang="en-US" sz="2400" spc="-1" strike="noStrike" baseline="50000">
                  <a:solidFill>
                    <a:srgbClr val="008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  =  32 i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9"/>
          <p:cNvGrpSpPr/>
          <p:nvPr/>
        </p:nvGrpSpPr>
        <p:grpSpPr>
          <a:xfrm>
            <a:off x="1286640" y="3124080"/>
            <a:ext cx="4019040" cy="2837160"/>
            <a:chOff x="1286640" y="3124080"/>
            <a:chExt cx="4019040" cy="2837160"/>
          </a:xfrm>
        </p:grpSpPr>
        <p:sp>
          <p:nvSpPr>
            <p:cNvPr id="213" name="Text Box 10"/>
            <p:cNvSpPr/>
            <p:nvPr/>
          </p:nvSpPr>
          <p:spPr>
            <a:xfrm>
              <a:off x="4192200" y="3124080"/>
              <a:ext cx="11134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1 bit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2 bit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3 bit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4 bit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5 bits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1286640" y="3833640"/>
              <a:ext cx="212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How ma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items can 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represented b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2"/>
            <p:cNvSpPr/>
            <p:nvPr/>
          </p:nvSpPr>
          <p:spPr>
            <a:xfrm>
              <a:off x="3657600" y="3425760"/>
              <a:ext cx="228600" cy="23619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1560 h 2361960"/>
                <a:gd name="textAreaBottom" fmla="*/ 230040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380880" y="12193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bits would you need to represent each of the 50 United States using a unique permutation of 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380880" y="12193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bits would you need to represent each of the 50 United States using a unique permutation of 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685800" y="3048120"/>
            <a:ext cx="434340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bits wouldn't be enough, becaus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ix bi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give us 64 permutations, and some wouldn't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5562720" y="2666880"/>
            <a:ext cx="30477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00   Ala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01  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10   Ariz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11   Arkan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100  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101   Col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 of the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Softwa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design, implementation,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1828800" y="20192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puter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specification for a personal comput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7 GHz Intel Core i7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GB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0 GB Hard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x Blu-ray / HD DVD-ROM &amp; 16x DVD+R DVD B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” Flat Screen Video Display with 1280 x 1024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0"/>
          <p:cNvGrpSpPr/>
          <p:nvPr/>
        </p:nvGrpSpPr>
        <p:grpSpPr>
          <a:xfrm>
            <a:off x="533520" y="1219320"/>
            <a:ext cx="8076960" cy="4800600"/>
            <a:chOff x="533520" y="1219320"/>
            <a:chExt cx="8076960" cy="4800600"/>
          </a:xfrm>
        </p:grpSpPr>
        <p:sp>
          <p:nvSpPr>
            <p:cNvPr id="235" name="TextBox 5"/>
            <p:cNvSpPr/>
            <p:nvPr/>
          </p:nvSpPr>
          <p:spPr>
            <a:xfrm>
              <a:off x="533520" y="1219320"/>
              <a:ext cx="807696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Picture 9" descr="fig01_09.tif"/>
            <p:cNvPicPr/>
            <p:nvPr/>
          </p:nvPicPr>
          <p:blipFill>
            <a:blip r:embed="rId1"/>
            <a:stretch/>
          </p:blipFill>
          <p:spPr>
            <a:xfrm>
              <a:off x="838080" y="1371600"/>
              <a:ext cx="7578720" cy="4439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3048120" y="1219320"/>
            <a:ext cx="4724280" cy="4840920"/>
            <a:chOff x="3048120" y="1219320"/>
            <a:chExt cx="4724280" cy="4840920"/>
          </a:xfrm>
        </p:grpSpPr>
        <p:grpSp>
          <p:nvGrpSpPr>
            <p:cNvPr id="239" name="Group 4"/>
            <p:cNvGrpSpPr/>
            <p:nvPr/>
          </p:nvGrpSpPr>
          <p:grpSpPr>
            <a:xfrm>
              <a:off x="3048120" y="1219320"/>
              <a:ext cx="1447560" cy="4840920"/>
              <a:chOff x="3048120" y="1219320"/>
              <a:chExt cx="1447560" cy="4840920"/>
            </a:xfrm>
          </p:grpSpPr>
          <p:grpSp>
            <p:nvGrpSpPr>
              <p:cNvPr id="240" name="Group 5"/>
              <p:cNvGrpSpPr/>
              <p:nvPr/>
            </p:nvGrpSpPr>
            <p:grpSpPr>
              <a:xfrm>
                <a:off x="3733920" y="1219320"/>
                <a:ext cx="97920" cy="574560"/>
                <a:chOff x="3733920" y="1219320"/>
                <a:chExt cx="97920" cy="574560"/>
              </a:xfrm>
            </p:grpSpPr>
            <p:sp>
              <p:nvSpPr>
                <p:cNvPr id="241" name="Oval 6"/>
                <p:cNvSpPr/>
                <p:nvPr/>
              </p:nvSpPr>
              <p:spPr>
                <a:xfrm>
                  <a:off x="3733920" y="1219320"/>
                  <a:ext cx="95040" cy="950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7"/>
                <p:cNvSpPr/>
                <p:nvPr/>
              </p:nvSpPr>
              <p:spPr>
                <a:xfrm>
                  <a:off x="3736800" y="1457280"/>
                  <a:ext cx="95040" cy="95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8"/>
                <p:cNvSpPr/>
                <p:nvPr/>
              </p:nvSpPr>
              <p:spPr>
                <a:xfrm>
                  <a:off x="3736800" y="1698480"/>
                  <a:ext cx="95040" cy="9540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9"/>
              <p:cNvGrpSpPr/>
              <p:nvPr/>
            </p:nvGrpSpPr>
            <p:grpSpPr>
              <a:xfrm>
                <a:off x="3733920" y="5486400"/>
                <a:ext cx="98280" cy="573840"/>
                <a:chOff x="3733920" y="5486400"/>
                <a:chExt cx="98280" cy="573840"/>
              </a:xfrm>
            </p:grpSpPr>
            <p:sp>
              <p:nvSpPr>
                <p:cNvPr id="245" name="Oval 10"/>
                <p:cNvSpPr/>
                <p:nvPr/>
              </p:nvSpPr>
              <p:spPr>
                <a:xfrm>
                  <a:off x="3733920" y="5486400"/>
                  <a:ext cx="95040" cy="950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Oval 11"/>
                <p:cNvSpPr/>
                <p:nvPr/>
              </p:nvSpPr>
              <p:spPr>
                <a:xfrm>
                  <a:off x="3737160" y="5724360"/>
                  <a:ext cx="95040" cy="9468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12"/>
                <p:cNvSpPr/>
                <p:nvPr/>
              </p:nvSpPr>
              <p:spPr>
                <a:xfrm>
                  <a:off x="3737160" y="5965200"/>
                  <a:ext cx="95040" cy="95040"/>
                </a:xfrm>
                <a:prstGeom prst="ellipse">
                  <a:avLst/>
                </a:prstGeom>
                <a:solidFill>
                  <a:srgbClr val="009999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Group 13"/>
              <p:cNvGrpSpPr/>
              <p:nvPr/>
            </p:nvGrpSpPr>
            <p:grpSpPr>
              <a:xfrm>
                <a:off x="3048120" y="1904760"/>
                <a:ext cx="1447560" cy="3428280"/>
                <a:chOff x="3048120" y="1904760"/>
                <a:chExt cx="1447560" cy="3428280"/>
              </a:xfrm>
            </p:grpSpPr>
            <p:sp>
              <p:nvSpPr>
                <p:cNvPr id="249" name="Rectangle 14"/>
                <p:cNvSpPr/>
                <p:nvPr/>
              </p:nvSpPr>
              <p:spPr>
                <a:xfrm>
                  <a:off x="3048120" y="190476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5"/>
                <p:cNvSpPr/>
                <p:nvPr/>
              </p:nvSpPr>
              <p:spPr>
                <a:xfrm>
                  <a:off x="3048120" y="228564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6"/>
                <p:cNvSpPr/>
                <p:nvPr/>
              </p:nvSpPr>
              <p:spPr>
                <a:xfrm>
                  <a:off x="3048120" y="266652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7"/>
                <p:cNvSpPr/>
                <p:nvPr/>
              </p:nvSpPr>
              <p:spPr>
                <a:xfrm>
                  <a:off x="3048120" y="304740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8"/>
                <p:cNvSpPr/>
                <p:nvPr/>
              </p:nvSpPr>
              <p:spPr>
                <a:xfrm>
                  <a:off x="3048120" y="342864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Rectangle 19"/>
                <p:cNvSpPr/>
                <p:nvPr/>
              </p:nvSpPr>
              <p:spPr>
                <a:xfrm>
                  <a:off x="3048120" y="380952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0"/>
                <p:cNvSpPr/>
                <p:nvPr/>
              </p:nvSpPr>
              <p:spPr>
                <a:xfrm>
                  <a:off x="3048120" y="4190400"/>
                  <a:ext cx="1447560" cy="380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21"/>
                <p:cNvSpPr/>
                <p:nvPr/>
              </p:nvSpPr>
              <p:spPr>
                <a:xfrm>
                  <a:off x="3048120" y="457164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22"/>
                <p:cNvSpPr/>
                <p:nvPr/>
              </p:nvSpPr>
              <p:spPr>
                <a:xfrm>
                  <a:off x="3048120" y="4952520"/>
                  <a:ext cx="1447560" cy="380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8" name="Text Box 23"/>
            <p:cNvSpPr/>
            <p:nvPr/>
          </p:nvSpPr>
          <p:spPr>
            <a:xfrm>
              <a:off x="4876920" y="2133360"/>
              <a:ext cx="2895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Main memory is divided into many memory locations (or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 Unicode MS"/>
                </a:rPr>
                <a:t>cells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4"/>
          <p:cNvGrpSpPr/>
          <p:nvPr/>
        </p:nvGrpSpPr>
        <p:grpSpPr>
          <a:xfrm>
            <a:off x="2039400" y="1905120"/>
            <a:ext cx="5885280" cy="3457440"/>
            <a:chOff x="2039400" y="1905120"/>
            <a:chExt cx="5885280" cy="3457440"/>
          </a:xfrm>
        </p:grpSpPr>
        <p:sp>
          <p:nvSpPr>
            <p:cNvPr id="260" name="Rectangle 25"/>
            <p:cNvSpPr/>
            <p:nvPr/>
          </p:nvSpPr>
          <p:spPr>
            <a:xfrm>
              <a:off x="2039400" y="1905120"/>
              <a:ext cx="879840" cy="34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7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7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 Unicode MS"/>
                </a:rPr>
                <a:t>92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4876560" y="3962520"/>
              <a:ext cx="30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Each memory cell has a numeric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 Unicode MS"/>
                </a:rPr>
                <a:t>address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, which uniquely identifies 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ooter Placeholder 2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3048120" y="1219320"/>
            <a:ext cx="1447560" cy="4840920"/>
            <a:chOff x="3048120" y="1219320"/>
            <a:chExt cx="1447560" cy="4840920"/>
          </a:xfrm>
        </p:grpSpPr>
        <p:grpSp>
          <p:nvGrpSpPr>
            <p:cNvPr id="265" name="Group 5"/>
            <p:cNvGrpSpPr/>
            <p:nvPr/>
          </p:nvGrpSpPr>
          <p:grpSpPr>
            <a:xfrm>
              <a:off x="3733560" y="1219320"/>
              <a:ext cx="97560" cy="574560"/>
              <a:chOff x="3733560" y="1219320"/>
              <a:chExt cx="97560" cy="574560"/>
            </a:xfrm>
          </p:grpSpPr>
          <p:sp>
            <p:nvSpPr>
              <p:cNvPr id="266" name="Oval 6"/>
              <p:cNvSpPr/>
              <p:nvPr/>
            </p:nvSpPr>
            <p:spPr>
              <a:xfrm>
                <a:off x="3733560" y="1219320"/>
                <a:ext cx="94680" cy="950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7"/>
              <p:cNvSpPr/>
              <p:nvPr/>
            </p:nvSpPr>
            <p:spPr>
              <a:xfrm>
                <a:off x="3736440" y="1457280"/>
                <a:ext cx="94680" cy="9540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8"/>
              <p:cNvSpPr/>
              <p:nvPr/>
            </p:nvSpPr>
            <p:spPr>
              <a:xfrm>
                <a:off x="3736440" y="1698480"/>
                <a:ext cx="94680" cy="9540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9"/>
            <p:cNvGrpSpPr/>
            <p:nvPr/>
          </p:nvGrpSpPr>
          <p:grpSpPr>
            <a:xfrm>
              <a:off x="3733560" y="5486400"/>
              <a:ext cx="97560" cy="573840"/>
              <a:chOff x="3733560" y="5486400"/>
              <a:chExt cx="97560" cy="573840"/>
            </a:xfrm>
          </p:grpSpPr>
          <p:sp>
            <p:nvSpPr>
              <p:cNvPr id="270" name="Oval 10"/>
              <p:cNvSpPr/>
              <p:nvPr/>
            </p:nvSpPr>
            <p:spPr>
              <a:xfrm>
                <a:off x="3733560" y="5486400"/>
                <a:ext cx="94680" cy="950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1"/>
              <p:cNvSpPr/>
              <p:nvPr/>
            </p:nvSpPr>
            <p:spPr>
              <a:xfrm>
                <a:off x="3736440" y="5724360"/>
                <a:ext cx="94680" cy="946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2"/>
              <p:cNvSpPr/>
              <p:nvPr/>
            </p:nvSpPr>
            <p:spPr>
              <a:xfrm>
                <a:off x="3736440" y="5965200"/>
                <a:ext cx="94680" cy="950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3"/>
            <p:cNvGrpSpPr/>
            <p:nvPr/>
          </p:nvGrpSpPr>
          <p:grpSpPr>
            <a:xfrm>
              <a:off x="3048120" y="1904760"/>
              <a:ext cx="1447560" cy="3428280"/>
              <a:chOff x="3048120" y="1904760"/>
              <a:chExt cx="1447560" cy="3428280"/>
            </a:xfrm>
          </p:grpSpPr>
          <p:sp>
            <p:nvSpPr>
              <p:cNvPr id="274" name="Rectangle 14"/>
              <p:cNvSpPr/>
              <p:nvPr/>
            </p:nvSpPr>
            <p:spPr>
              <a:xfrm>
                <a:off x="3048120" y="190476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5"/>
              <p:cNvSpPr/>
              <p:nvPr/>
            </p:nvSpPr>
            <p:spPr>
              <a:xfrm>
                <a:off x="3048120" y="228564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6"/>
              <p:cNvSpPr/>
              <p:nvPr/>
            </p:nvSpPr>
            <p:spPr>
              <a:xfrm>
                <a:off x="3048120" y="266652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7"/>
              <p:cNvSpPr/>
              <p:nvPr/>
            </p:nvSpPr>
            <p:spPr>
              <a:xfrm>
                <a:off x="3048120" y="304740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8"/>
              <p:cNvSpPr/>
              <p:nvPr/>
            </p:nvSpPr>
            <p:spPr>
              <a:xfrm>
                <a:off x="3048120" y="342864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9"/>
              <p:cNvSpPr/>
              <p:nvPr/>
            </p:nvSpPr>
            <p:spPr>
              <a:xfrm>
                <a:off x="3048120" y="380952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0"/>
              <p:cNvSpPr/>
              <p:nvPr/>
            </p:nvSpPr>
            <p:spPr>
              <a:xfrm>
                <a:off x="3048120" y="4190400"/>
                <a:ext cx="1447560" cy="38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21"/>
              <p:cNvSpPr/>
              <p:nvPr/>
            </p:nvSpPr>
            <p:spPr>
              <a:xfrm>
                <a:off x="3048120" y="457164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22"/>
              <p:cNvSpPr/>
              <p:nvPr/>
            </p:nvSpPr>
            <p:spPr>
              <a:xfrm>
                <a:off x="3048120" y="4952520"/>
                <a:ext cx="1447560" cy="380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Rectangle 25"/>
          <p:cNvSpPr/>
          <p:nvPr/>
        </p:nvSpPr>
        <p:spPr>
          <a:xfrm>
            <a:off x="2039760" y="1905120"/>
            <a:ext cx="8798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92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7"/>
          <p:cNvGrpSpPr/>
          <p:nvPr/>
        </p:nvGrpSpPr>
        <p:grpSpPr>
          <a:xfrm>
            <a:off x="4724280" y="3352680"/>
            <a:ext cx="3179160" cy="1007280"/>
            <a:chOff x="4724280" y="3352680"/>
            <a:chExt cx="3179160" cy="1007280"/>
          </a:xfrm>
        </p:grpSpPr>
        <p:sp>
          <p:nvSpPr>
            <p:cNvPr id="285" name="Rectangle 28"/>
            <p:cNvSpPr/>
            <p:nvPr/>
          </p:nvSpPr>
          <p:spPr>
            <a:xfrm>
              <a:off x="5005800" y="3352680"/>
              <a:ext cx="28976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Large values 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stored in cons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memory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9"/>
            <p:cNvSpPr/>
            <p:nvPr/>
          </p:nvSpPr>
          <p:spPr>
            <a:xfrm>
              <a:off x="4724280" y="3504960"/>
              <a:ext cx="228600" cy="685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50"/>
                  </a:lnTo>
                  <a:cubicBezTo>
                    <a:pt x="10800" y="9550"/>
                    <a:pt x="16200" y="10450"/>
                    <a:pt x="21600" y="10450"/>
                  </a:cubicBezTo>
                  <a:cubicBezTo>
                    <a:pt x="16200" y="10450"/>
                    <a:pt x="10800" y="11350"/>
                    <a:pt x="10800" y="1225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30"/>
          <p:cNvGrpSpPr/>
          <p:nvPr/>
        </p:nvGrpSpPr>
        <p:grpSpPr>
          <a:xfrm>
            <a:off x="3048120" y="3429000"/>
            <a:ext cx="1447560" cy="761760"/>
            <a:chOff x="3048120" y="3429000"/>
            <a:chExt cx="1447560" cy="761760"/>
          </a:xfrm>
        </p:grpSpPr>
        <p:sp>
          <p:nvSpPr>
            <p:cNvPr id="288" name="Rectangle 31"/>
            <p:cNvSpPr/>
            <p:nvPr/>
          </p:nvSpPr>
          <p:spPr>
            <a:xfrm>
              <a:off x="3048120" y="3429000"/>
              <a:ext cx="1447560" cy="3808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2"/>
            <p:cNvSpPr/>
            <p:nvPr/>
          </p:nvSpPr>
          <p:spPr>
            <a:xfrm>
              <a:off x="3048120" y="3809880"/>
              <a:ext cx="1447560" cy="3808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33"/>
          <p:cNvSpPr/>
          <p:nvPr/>
        </p:nvSpPr>
        <p:spPr>
          <a:xfrm>
            <a:off x="3068640" y="227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11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4"/>
          <p:cNvGrpSpPr/>
          <p:nvPr/>
        </p:nvGrpSpPr>
        <p:grpSpPr>
          <a:xfrm>
            <a:off x="4638600" y="1981080"/>
            <a:ext cx="3743280" cy="1313640"/>
            <a:chOff x="4638600" y="1981080"/>
            <a:chExt cx="3743280" cy="1313640"/>
          </a:xfrm>
        </p:grpSpPr>
        <p:sp>
          <p:nvSpPr>
            <p:cNvPr id="292" name="Text Box 35"/>
            <p:cNvSpPr/>
            <p:nvPr/>
          </p:nvSpPr>
          <p:spPr>
            <a:xfrm>
              <a:off x="5116320" y="1981080"/>
              <a:ext cx="3265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Each memory cell stores a set number of bits (usually 8 bits, or one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Arial Unicode MS"/>
                </a:rPr>
                <a:t>byte</a:t>
              </a: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6"/>
            <p:cNvSpPr/>
            <p:nvPr/>
          </p:nvSpPr>
          <p:spPr>
            <a:xfrm>
              <a:off x="4638600" y="2485800"/>
              <a:ext cx="3981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Footer Placeholder 3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6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emory device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dicating the number of bytes it can 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ies are expressed in various uni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1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447920" y="3352680"/>
          <a:ext cx="6019560" cy="2229120"/>
        </p:xfrm>
        <a:graphic>
          <a:graphicData uri="http://schemas.openxmlformats.org/drawingml/2006/table">
            <a:tbl>
              <a:tblPr/>
              <a:tblGrid>
                <a:gridCol w="1600200"/>
                <a:gridCol w="1752480"/>
                <a:gridCol w="266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B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ver one m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ver one b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ver one trill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a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 whole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lat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stored information is lost if the electric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memory devic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 and disk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ices - information can be reached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rect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ndom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ten are used interchange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gnetic tape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ice since its data is arranged in a linear order  -  you must get by the intervening data in order to access o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 Disk Dr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8"/>
          <p:cNvGrpSpPr/>
          <p:nvPr/>
        </p:nvGrpSpPr>
        <p:grpSpPr>
          <a:xfrm>
            <a:off x="1676520" y="1219320"/>
            <a:ext cx="5333760" cy="4800600"/>
            <a:chOff x="1676520" y="1219320"/>
            <a:chExt cx="5333760" cy="4800600"/>
          </a:xfrm>
        </p:grpSpPr>
        <p:sp>
          <p:nvSpPr>
            <p:cNvPr id="305" name="TextBox 5"/>
            <p:cNvSpPr/>
            <p:nvPr/>
          </p:nvSpPr>
          <p:spPr>
            <a:xfrm>
              <a:off x="1676520" y="1219320"/>
              <a:ext cx="5333760" cy="480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6" name="Picture 7" descr="fig01_12.tif"/>
            <p:cNvPicPr/>
            <p:nvPr/>
          </p:nvPicPr>
          <p:blipFill>
            <a:blip r:embed="rId1"/>
            <a:stretch/>
          </p:blipFill>
          <p:spPr>
            <a:xfrm>
              <a:off x="2209680" y="1523880"/>
              <a:ext cx="4233600" cy="4168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 vs. 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Random Access Memory (direct a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Read-Onl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RAM and main memory are basically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could be a set of memory chips, or a separate device, such as a CD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RAM and ROM are random (direct) access dev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 probably should be called Read-Writ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ct Dis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D-ROM is portable read-onl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croscopic pit on a CD represents a binary 1 and a smooth area represents a binar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intensity laser reflects strongly from a smooth area and weakly from a p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D-Recordable (CD-R) drive can be used to write information to a C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D-Rewritable (CD-RW) can be erased and re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of a CD drive indicates how fast (max) it can read and write information to a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art with the fundamentals of computer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focuse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puters store and manipul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and the World Wid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and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view of object-orien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V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VD is the same physical size as a CD, but can store much mor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t of a DVD stores more bits per square i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D can store 650 MB, while a standard DVD can store 4.7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uble sided DVD can store 9.4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dvanced techniques can bring the capacity up to 17.0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CDs, there are DVD-R and DVD-RW dis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entral Processing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PU is on a chip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cropro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tinuously follow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tch-decode-execute cy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21566400">
            <a:off x="2736720" y="3689280"/>
            <a:ext cx="685800" cy="762120"/>
          </a:xfrm>
          <a:custGeom>
            <a:avLst/>
            <a:gdLst>
              <a:gd name="textAreaLeft" fmla="*/ 394560 w 685800"/>
              <a:gd name="textAreaRight" fmla="*/ 578880 w 685800"/>
              <a:gd name="textAreaTop" fmla="*/ 102600 h 762120"/>
              <a:gd name="textAreaBottom" fmla="*/ 32616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"/>
          <p:cNvGrpSpPr/>
          <p:nvPr/>
        </p:nvGrpSpPr>
        <p:grpSpPr>
          <a:xfrm>
            <a:off x="1604880" y="3005280"/>
            <a:ext cx="5645880" cy="1203120"/>
            <a:chOff x="1604880" y="3005280"/>
            <a:chExt cx="5645880" cy="1203120"/>
          </a:xfrm>
        </p:grpSpPr>
        <p:sp>
          <p:nvSpPr>
            <p:cNvPr id="320" name="AutoShape 6"/>
            <p:cNvSpPr/>
            <p:nvPr/>
          </p:nvSpPr>
          <p:spPr>
            <a:xfrm>
              <a:off x="3486240" y="352260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fet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7"/>
            <p:cNvSpPr/>
            <p:nvPr/>
          </p:nvSpPr>
          <p:spPr>
            <a:xfrm>
              <a:off x="1604880" y="3005280"/>
              <a:ext cx="564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Retrieve an instruction from main 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4870440" y="3760200"/>
            <a:ext cx="3271680" cy="2337480"/>
            <a:chOff x="4870440" y="3760200"/>
            <a:chExt cx="3271680" cy="2337480"/>
          </a:xfrm>
        </p:grpSpPr>
        <p:sp>
          <p:nvSpPr>
            <p:cNvPr id="323" name="AutoShape 9"/>
            <p:cNvSpPr/>
            <p:nvPr/>
          </p:nvSpPr>
          <p:spPr>
            <a:xfrm>
              <a:off x="4870440" y="460332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dec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 rot="5434800">
              <a:off x="5136840" y="3725640"/>
              <a:ext cx="685800" cy="762120"/>
            </a:xfrm>
            <a:custGeom>
              <a:avLst/>
              <a:gdLst>
                <a:gd name="textAreaLeft" fmla="*/ 395280 w 685800"/>
                <a:gd name="textAreaRight" fmla="*/ 579600 w 685800"/>
                <a:gd name="textAreaTop" fmla="*/ 102960 h 762120"/>
                <a:gd name="textAreaBottom" fmla="*/ 3254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5390280" y="5393880"/>
              <a:ext cx="275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Determine what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instruction 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2"/>
          <p:cNvGrpSpPr/>
          <p:nvPr/>
        </p:nvGrpSpPr>
        <p:grpSpPr>
          <a:xfrm>
            <a:off x="1341720" y="4603680"/>
            <a:ext cx="3376440" cy="1494360"/>
            <a:chOff x="1341720" y="4603680"/>
            <a:chExt cx="3376440" cy="1494360"/>
          </a:xfrm>
        </p:grpSpPr>
        <p:sp>
          <p:nvSpPr>
            <p:cNvPr id="327" name="AutoShape 13"/>
            <p:cNvSpPr/>
            <p:nvPr/>
          </p:nvSpPr>
          <p:spPr>
            <a:xfrm>
              <a:off x="2203560" y="4603680"/>
              <a:ext cx="1523880" cy="68580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</a:rPr>
                <a:t>execu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4"/>
            <p:cNvSpPr/>
            <p:nvPr/>
          </p:nvSpPr>
          <p:spPr>
            <a:xfrm>
              <a:off x="3803760" y="4743360"/>
              <a:ext cx="914400" cy="45720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5"/>
            <p:cNvSpPr/>
            <p:nvPr/>
          </p:nvSpPr>
          <p:spPr>
            <a:xfrm>
              <a:off x="1341720" y="5394240"/>
              <a:ext cx="1866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Carry out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entral Processing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371600" y="1847880"/>
            <a:ext cx="29718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rithmetic / Logic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1523880" y="4330800"/>
            <a:ext cx="2667240" cy="685800"/>
          </a:xfrm>
          <a:prstGeom prst="cube">
            <a:avLst>
              <a:gd name="adj" fmla="val 8523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1562040" y="3124080"/>
            <a:ext cx="2629080" cy="6098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5410080" y="4178160"/>
            <a:ext cx="1828800" cy="100872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mall stora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5410080" y="1816200"/>
            <a:ext cx="2667240" cy="100872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Performs calculations and makes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5410080" y="2959200"/>
            <a:ext cx="2286000" cy="100872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oordinates processing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1066680" y="1600200"/>
            <a:ext cx="3575160" cy="3645000"/>
          </a:xfrm>
          <a:custGeom>
            <a:avLst/>
            <a:gdLst>
              <a:gd name="textAreaLeft" fmla="*/ 174240 w 3575160"/>
              <a:gd name="textAreaRight" fmla="*/ 3400920 w 3575160"/>
              <a:gd name="textAreaTop" fmla="*/ 174240 h 3645000"/>
              <a:gd name="textAreaBottom" fmla="*/ 3470760 h 3645000"/>
            </a:gdLst>
            <a:ahLst/>
            <a:rect l="textAreaLeft" t="textAreaTop" r="textAreaRight" b="textAreaBottom"/>
            <a:pathLst>
              <a:path w="21600" h="22022">
                <a:moveTo>
                  <a:pt x="3600" y="0"/>
                </a:moveTo>
                <a:arcTo wR="3600" hR="3600" stAng="16200000" swAng="-5400000"/>
                <a:lnTo>
                  <a:pt x="0" y="18422"/>
                </a:lnTo>
                <a:arcTo wR="3600" hR="3600" stAng="10800000" swAng="-5400000"/>
                <a:lnTo>
                  <a:pt x="18000" y="22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2743200" y="2590920"/>
            <a:ext cx="228600" cy="1676160"/>
            <a:chOff x="2743200" y="2590920"/>
            <a:chExt cx="228600" cy="1676160"/>
          </a:xfrm>
        </p:grpSpPr>
        <p:sp>
          <p:nvSpPr>
            <p:cNvPr id="340" name="AutoShape 12"/>
            <p:cNvSpPr/>
            <p:nvPr/>
          </p:nvSpPr>
          <p:spPr>
            <a:xfrm>
              <a:off x="2743200" y="25909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>
              <a:off x="2743200" y="380988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entral Processing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ed of a CPU is controll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stem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 clock generates an electronic pulse at regular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lses coordinate the activities of the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ed is usually measur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igahert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ze of a monitor (17") is measured diagonally, like a television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nitor has a certain maximu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indicating the number of picture elements,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ix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it can display (such as 1280 by 10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esolution (more pixels) produces sharper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1828800" y="263376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wo or more computers that are connected so that data and resources can b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uters are connected to some kind o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mputer has its 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work add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uniquely identifies it among the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 ser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etwork computer dedicated to storing programs and data that are shared among network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mputer in a network could be directly connected to every other computer in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oint-to-poi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197320" y="3835080"/>
            <a:ext cx="1314360" cy="844920"/>
            <a:chOff x="5197320" y="3835080"/>
            <a:chExt cx="1314360" cy="844920"/>
          </a:xfrm>
        </p:grpSpPr>
        <p:sp>
          <p:nvSpPr>
            <p:cNvPr id="359" name="Line 5"/>
            <p:cNvSpPr/>
            <p:nvPr/>
          </p:nvSpPr>
          <p:spPr>
            <a:xfrm>
              <a:off x="5219280" y="383544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6"/>
            <p:cNvSpPr/>
            <p:nvPr/>
          </p:nvSpPr>
          <p:spPr>
            <a:xfrm>
              <a:off x="6474960" y="3857760"/>
              <a:ext cx="0" cy="82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7"/>
            <p:cNvSpPr/>
            <p:nvPr/>
          </p:nvSpPr>
          <p:spPr>
            <a:xfrm flipV="1">
              <a:off x="5197320" y="3835080"/>
              <a:ext cx="1314360" cy="77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8"/>
          <p:cNvGrpSpPr/>
          <p:nvPr/>
        </p:nvGrpSpPr>
        <p:grpSpPr>
          <a:xfrm>
            <a:off x="5165640" y="3379680"/>
            <a:ext cx="1327320" cy="1241280"/>
            <a:chOff x="5165640" y="3379680"/>
            <a:chExt cx="1327320" cy="1241280"/>
          </a:xfrm>
        </p:grpSpPr>
        <p:sp>
          <p:nvSpPr>
            <p:cNvPr id="363" name="Line 9"/>
            <p:cNvSpPr/>
            <p:nvPr/>
          </p:nvSpPr>
          <p:spPr>
            <a:xfrm>
              <a:off x="5799240" y="3393720"/>
              <a:ext cx="69372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0"/>
            <p:cNvSpPr/>
            <p:nvPr/>
          </p:nvSpPr>
          <p:spPr>
            <a:xfrm flipH="1">
              <a:off x="5165640" y="3379680"/>
              <a:ext cx="61920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1"/>
            <p:cNvSpPr/>
            <p:nvPr/>
          </p:nvSpPr>
          <p:spPr>
            <a:xfrm flipH="1">
              <a:off x="5208120" y="3408120"/>
              <a:ext cx="590760" cy="11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2"/>
            <p:cNvSpPr/>
            <p:nvPr/>
          </p:nvSpPr>
          <p:spPr>
            <a:xfrm>
              <a:off x="5799240" y="3393720"/>
              <a:ext cx="679320" cy="122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3"/>
          <p:cNvGrpSpPr/>
          <p:nvPr/>
        </p:nvGrpSpPr>
        <p:grpSpPr>
          <a:xfrm>
            <a:off x="5181120" y="3431880"/>
            <a:ext cx="1313280" cy="1646280"/>
            <a:chOff x="5181120" y="3431880"/>
            <a:chExt cx="1313280" cy="1646280"/>
          </a:xfrm>
        </p:grpSpPr>
        <p:sp>
          <p:nvSpPr>
            <p:cNvPr id="368" name="Line 14"/>
            <p:cNvSpPr/>
            <p:nvPr/>
          </p:nvSpPr>
          <p:spPr>
            <a:xfrm flipH="1" flipV="1">
              <a:off x="5181120" y="4616280"/>
              <a:ext cx="62100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 flipH="1" flipV="1">
              <a:off x="5181120" y="3837240"/>
              <a:ext cx="621000" cy="121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6"/>
            <p:cNvSpPr/>
            <p:nvPr/>
          </p:nvSpPr>
          <p:spPr>
            <a:xfrm flipV="1">
              <a:off x="5816520" y="3431880"/>
              <a:ext cx="0" cy="164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 flipV="1">
              <a:off x="5802480" y="3837240"/>
              <a:ext cx="691920" cy="12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8"/>
            <p:cNvSpPr/>
            <p:nvPr/>
          </p:nvSpPr>
          <p:spPr>
            <a:xfrm flipV="1">
              <a:off x="5802480" y="4616280"/>
              <a:ext cx="69192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Oval 19"/>
          <p:cNvSpPr/>
          <p:nvPr/>
        </p:nvSpPr>
        <p:spPr>
          <a:xfrm>
            <a:off x="6378480" y="3724200"/>
            <a:ext cx="225360" cy="22536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0"/>
          <p:cNvGrpSpPr/>
          <p:nvPr/>
        </p:nvGrpSpPr>
        <p:grpSpPr>
          <a:xfrm>
            <a:off x="5075280" y="3722760"/>
            <a:ext cx="1528200" cy="998640"/>
            <a:chOff x="5075280" y="3722760"/>
            <a:chExt cx="1528200" cy="998640"/>
          </a:xfrm>
        </p:grpSpPr>
        <p:sp>
          <p:nvSpPr>
            <p:cNvPr id="375" name="Line 21"/>
            <p:cNvSpPr/>
            <p:nvPr/>
          </p:nvSpPr>
          <p:spPr>
            <a:xfrm>
              <a:off x="5176440" y="3835440"/>
              <a:ext cx="131400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2"/>
            <p:cNvSpPr/>
            <p:nvPr/>
          </p:nvSpPr>
          <p:spPr>
            <a:xfrm flipV="1">
              <a:off x="5176440" y="3857400"/>
              <a:ext cx="0" cy="77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3"/>
            <p:cNvSpPr/>
            <p:nvPr/>
          </p:nvSpPr>
          <p:spPr>
            <a:xfrm>
              <a:off x="5159160" y="4649760"/>
              <a:ext cx="137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4"/>
            <p:cNvSpPr/>
            <p:nvPr/>
          </p:nvSpPr>
          <p:spPr>
            <a:xfrm>
              <a:off x="5075280" y="3722760"/>
              <a:ext cx="22500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5"/>
            <p:cNvSpPr/>
            <p:nvPr/>
          </p:nvSpPr>
          <p:spPr>
            <a:xfrm>
              <a:off x="5075280" y="4494240"/>
              <a:ext cx="22500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26"/>
            <p:cNvSpPr/>
            <p:nvPr/>
          </p:nvSpPr>
          <p:spPr>
            <a:xfrm>
              <a:off x="6378120" y="449604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Oval 27"/>
          <p:cNvSpPr/>
          <p:nvPr/>
        </p:nvSpPr>
        <p:spPr>
          <a:xfrm>
            <a:off x="5692680" y="3278160"/>
            <a:ext cx="225360" cy="22536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5707080" y="4954680"/>
            <a:ext cx="225360" cy="225360"/>
          </a:xfrm>
          <a:prstGeom prst="ellipse">
            <a:avLst/>
          </a:prstGeom>
          <a:solidFill>
            <a:srgbClr val="009999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9"/>
          <p:cNvSpPr/>
          <p:nvPr/>
        </p:nvSpPr>
        <p:spPr>
          <a:xfrm>
            <a:off x="3318840" y="5334120"/>
            <a:ext cx="52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This technique is not practical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more than a few clos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0"/>
          <p:cNvSpPr/>
          <p:nvPr/>
        </p:nvSpPr>
        <p:spPr>
          <a:xfrm>
            <a:off x="374040" y="3459240"/>
            <a:ext cx="44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dding a computer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 new communicat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for each computer 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in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3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work 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14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tworks share a single communicatio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a new computer to the network is relatively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2666880" y="380520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"/>
          <p:cNvGrpSpPr/>
          <p:nvPr/>
        </p:nvGrpSpPr>
        <p:grpSpPr>
          <a:xfrm>
            <a:off x="2863800" y="3124080"/>
            <a:ext cx="225360" cy="685440"/>
            <a:chOff x="2863800" y="3124080"/>
            <a:chExt cx="225360" cy="685440"/>
          </a:xfrm>
        </p:grpSpPr>
        <p:sp>
          <p:nvSpPr>
            <p:cNvPr id="390" name="Line 6"/>
            <p:cNvSpPr/>
            <p:nvPr/>
          </p:nvSpPr>
          <p:spPr>
            <a:xfrm flipV="1">
              <a:off x="297648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7"/>
            <p:cNvSpPr/>
            <p:nvPr/>
          </p:nvSpPr>
          <p:spPr>
            <a:xfrm>
              <a:off x="286380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8"/>
          <p:cNvGrpSpPr/>
          <p:nvPr/>
        </p:nvGrpSpPr>
        <p:grpSpPr>
          <a:xfrm>
            <a:off x="5141880" y="3124080"/>
            <a:ext cx="225360" cy="685440"/>
            <a:chOff x="5141880" y="3124080"/>
            <a:chExt cx="225360" cy="685440"/>
          </a:xfrm>
        </p:grpSpPr>
        <p:sp>
          <p:nvSpPr>
            <p:cNvPr id="393" name="Line 9"/>
            <p:cNvSpPr/>
            <p:nvPr/>
          </p:nvSpPr>
          <p:spPr>
            <a:xfrm flipV="1">
              <a:off x="525456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0"/>
            <p:cNvSpPr/>
            <p:nvPr/>
          </p:nvSpPr>
          <p:spPr>
            <a:xfrm>
              <a:off x="514188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1"/>
          <p:cNvGrpSpPr/>
          <p:nvPr/>
        </p:nvGrpSpPr>
        <p:grpSpPr>
          <a:xfrm>
            <a:off x="5711760" y="3124080"/>
            <a:ext cx="225360" cy="685440"/>
            <a:chOff x="5711760" y="3124080"/>
            <a:chExt cx="225360" cy="685440"/>
          </a:xfrm>
        </p:grpSpPr>
        <p:sp>
          <p:nvSpPr>
            <p:cNvPr id="396" name="Line 12"/>
            <p:cNvSpPr/>
            <p:nvPr/>
          </p:nvSpPr>
          <p:spPr>
            <a:xfrm flipV="1">
              <a:off x="582444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3"/>
            <p:cNvSpPr/>
            <p:nvPr/>
          </p:nvSpPr>
          <p:spPr>
            <a:xfrm>
              <a:off x="571176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14"/>
          <p:cNvGrpSpPr/>
          <p:nvPr/>
        </p:nvGrpSpPr>
        <p:grpSpPr>
          <a:xfrm>
            <a:off x="3432240" y="3124080"/>
            <a:ext cx="225360" cy="685440"/>
            <a:chOff x="3432240" y="3124080"/>
            <a:chExt cx="225360" cy="685440"/>
          </a:xfrm>
        </p:grpSpPr>
        <p:sp>
          <p:nvSpPr>
            <p:cNvPr id="399" name="Line 15"/>
            <p:cNvSpPr/>
            <p:nvPr/>
          </p:nvSpPr>
          <p:spPr>
            <a:xfrm flipV="1">
              <a:off x="354492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6"/>
            <p:cNvSpPr/>
            <p:nvPr/>
          </p:nvSpPr>
          <p:spPr>
            <a:xfrm>
              <a:off x="343224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7"/>
          <p:cNvGrpSpPr/>
          <p:nvPr/>
        </p:nvGrpSpPr>
        <p:grpSpPr>
          <a:xfrm>
            <a:off x="4002120" y="3124080"/>
            <a:ext cx="225360" cy="685440"/>
            <a:chOff x="4002120" y="3124080"/>
            <a:chExt cx="225360" cy="685440"/>
          </a:xfrm>
        </p:grpSpPr>
        <p:sp>
          <p:nvSpPr>
            <p:cNvPr id="402" name="Line 18"/>
            <p:cNvSpPr/>
            <p:nvPr/>
          </p:nvSpPr>
          <p:spPr>
            <a:xfrm flipV="1">
              <a:off x="411480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9"/>
            <p:cNvSpPr/>
            <p:nvPr/>
          </p:nvSpPr>
          <p:spPr>
            <a:xfrm>
              <a:off x="400212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20"/>
          <p:cNvGrpSpPr/>
          <p:nvPr/>
        </p:nvGrpSpPr>
        <p:grpSpPr>
          <a:xfrm>
            <a:off x="4572000" y="3124080"/>
            <a:ext cx="225360" cy="685440"/>
            <a:chOff x="4572000" y="3124080"/>
            <a:chExt cx="225360" cy="685440"/>
          </a:xfrm>
        </p:grpSpPr>
        <p:sp>
          <p:nvSpPr>
            <p:cNvPr id="405" name="Line 21"/>
            <p:cNvSpPr/>
            <p:nvPr/>
          </p:nvSpPr>
          <p:spPr>
            <a:xfrm flipV="1">
              <a:off x="4684320" y="3276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2"/>
            <p:cNvSpPr/>
            <p:nvPr/>
          </p:nvSpPr>
          <p:spPr>
            <a:xfrm>
              <a:off x="4572000" y="31240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23"/>
          <p:cNvSpPr/>
          <p:nvPr/>
        </p:nvSpPr>
        <p:spPr>
          <a:xfrm>
            <a:off x="205200" y="4191120"/>
            <a:ext cx="42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Network traffic must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turns using the line,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introduces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4340160" y="4183200"/>
            <a:ext cx="496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Often information is 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down in parts, called </a:t>
            </a:r>
            <a:r>
              <a:rPr b="1" i="1" lang="en-US" sz="2400" spc="-1" strike="noStrike">
                <a:solidFill>
                  <a:srgbClr val="008000"/>
                </a:solidFill>
                <a:latin typeface="Arial Unicode MS"/>
              </a:rPr>
              <a:t>packets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which are sent to the rece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machine and then re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5"/>
          <p:cNvSpPr/>
          <p:nvPr/>
        </p:nvSpPr>
        <p:spPr>
          <a:xfrm>
            <a:off x="4759200" y="351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2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puter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533520" y="1752480"/>
            <a:ext cx="8153280" cy="3429000"/>
            <a:chOff x="533520" y="1752480"/>
            <a:chExt cx="8153280" cy="3429000"/>
          </a:xfrm>
        </p:grpSpPr>
        <p:sp>
          <p:nvSpPr>
            <p:cNvPr id="414" name="TextBox 5"/>
            <p:cNvSpPr/>
            <p:nvPr/>
          </p:nvSpPr>
          <p:spPr>
            <a:xfrm>
              <a:off x="533520" y="1752480"/>
              <a:ext cx="815328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Picture 7" descr="fig01_15.tif"/>
            <p:cNvPicPr/>
            <p:nvPr/>
          </p:nvPicPr>
          <p:blipFill>
            <a:blip r:embed="rId1"/>
            <a:stretch/>
          </p:blipFill>
          <p:spPr>
            <a:xfrm>
              <a:off x="762120" y="2209680"/>
              <a:ext cx="7567560" cy="24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28800" y="1371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-Area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4968720" y="1447920"/>
            <a:ext cx="2954520" cy="2387880"/>
            <a:chOff x="4968720" y="1447920"/>
            <a:chExt cx="2954520" cy="2387880"/>
          </a:xfrm>
        </p:grpSpPr>
        <p:sp>
          <p:nvSpPr>
            <p:cNvPr id="418" name="Line 4"/>
            <p:cNvSpPr/>
            <p:nvPr/>
          </p:nvSpPr>
          <p:spPr>
            <a:xfrm flipV="1">
              <a:off x="5568840" y="2025000"/>
              <a:ext cx="58428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"/>
            <p:cNvSpPr/>
            <p:nvPr/>
          </p:nvSpPr>
          <p:spPr>
            <a:xfrm flipH="1" flipV="1">
              <a:off x="5546520" y="2176200"/>
              <a:ext cx="260280" cy="71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>
              <a:off x="6434280" y="2523960"/>
              <a:ext cx="4284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 flipV="1">
              <a:off x="5807160" y="2523600"/>
              <a:ext cx="649080" cy="38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 flipH="1">
              <a:off x="7127640" y="2003400"/>
              <a:ext cx="15084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9"/>
            <p:cNvSpPr/>
            <p:nvPr/>
          </p:nvSpPr>
          <p:spPr>
            <a:xfrm flipV="1">
              <a:off x="6477120" y="2631960"/>
              <a:ext cx="650880" cy="56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0"/>
            <p:cNvSpPr/>
            <p:nvPr/>
          </p:nvSpPr>
          <p:spPr>
            <a:xfrm>
              <a:off x="5445000" y="2031840"/>
              <a:ext cx="22572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1"/>
            <p:cNvSpPr/>
            <p:nvPr/>
          </p:nvSpPr>
          <p:spPr>
            <a:xfrm>
              <a:off x="6031080" y="188100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2"/>
            <p:cNvSpPr/>
            <p:nvPr/>
          </p:nvSpPr>
          <p:spPr>
            <a:xfrm>
              <a:off x="5684760" y="277020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6357960" y="240192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4"/>
            <p:cNvSpPr/>
            <p:nvPr/>
          </p:nvSpPr>
          <p:spPr>
            <a:xfrm>
              <a:off x="6357960" y="305280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5"/>
            <p:cNvSpPr/>
            <p:nvPr/>
          </p:nvSpPr>
          <p:spPr>
            <a:xfrm>
              <a:off x="7008840" y="251136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6"/>
            <p:cNvSpPr/>
            <p:nvPr/>
          </p:nvSpPr>
          <p:spPr>
            <a:xfrm>
              <a:off x="7183440" y="188424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"/>
            <p:cNvSpPr/>
            <p:nvPr/>
          </p:nvSpPr>
          <p:spPr>
            <a:xfrm>
              <a:off x="4968720" y="1447920"/>
              <a:ext cx="2954520" cy="204444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8"/>
            <p:cNvSpPr/>
            <p:nvPr/>
          </p:nvSpPr>
          <p:spPr>
            <a:xfrm>
              <a:off x="7158960" y="3438360"/>
              <a:ext cx="71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9"/>
          <p:cNvSpPr/>
          <p:nvPr/>
        </p:nvSpPr>
        <p:spPr>
          <a:xfrm>
            <a:off x="785160" y="1600200"/>
            <a:ext cx="349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 </a:t>
            </a:r>
            <a:r>
              <a:rPr b="1" i="1" lang="en-US" sz="2400" spc="-1" strike="noStrike">
                <a:solidFill>
                  <a:srgbClr val="008000"/>
                </a:solidFill>
                <a:latin typeface="Arial Unicode MS"/>
              </a:rPr>
              <a:t>Local-Are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(LAN) covers a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distance and a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number of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3643200" y="4419720"/>
            <a:ext cx="55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 LAN often connects th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in a single room or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ooter Placeholder 2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reeform 2"/>
          <p:cNvSpPr/>
          <p:nvPr/>
        </p:nvSpPr>
        <p:spPr>
          <a:xfrm>
            <a:off x="2709720" y="2133720"/>
            <a:ext cx="2776680" cy="1751040"/>
          </a:xfrm>
          <a:custGeom>
            <a:avLst/>
            <a:gdLst>
              <a:gd name="textAreaLeft" fmla="*/ 0 w 2776680"/>
              <a:gd name="textAreaRight" fmla="*/ 2777040 w 2776680"/>
              <a:gd name="textAreaTop" fmla="*/ 0 h 1751040"/>
              <a:gd name="textAreaBottom" fmla="*/ 1751400 h 1751040"/>
            </a:gdLst>
            <a:ahLst/>
            <a:rect l="textAreaLeft" t="textAreaTop" r="textAreaRight" b="textAreaBottom"/>
            <a:pathLst>
              <a:path w="1788" h="1242">
                <a:moveTo>
                  <a:pt x="0" y="1241"/>
                </a:moveTo>
                <a:lnTo>
                  <a:pt x="900" y="641"/>
                </a:lnTo>
                <a:lnTo>
                  <a:pt x="696" y="641"/>
                </a:lnTo>
                <a:lnTo>
                  <a:pt x="178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de-Area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1116000" y="3630600"/>
            <a:ext cx="4350600" cy="2018160"/>
            <a:chOff x="1116000" y="3630600"/>
            <a:chExt cx="4350600" cy="2018160"/>
          </a:xfrm>
        </p:grpSpPr>
        <p:sp>
          <p:nvSpPr>
            <p:cNvPr id="439" name="Line 5"/>
            <p:cNvSpPr/>
            <p:nvPr/>
          </p:nvSpPr>
          <p:spPr>
            <a:xfrm flipV="1">
              <a:off x="1671480" y="4425840"/>
              <a:ext cx="67176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6"/>
            <p:cNvSpPr/>
            <p:nvPr/>
          </p:nvSpPr>
          <p:spPr>
            <a:xfrm flipH="1">
              <a:off x="2342880" y="3862440"/>
              <a:ext cx="34596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 flipH="1" flipV="1">
              <a:off x="1676160" y="4648320"/>
              <a:ext cx="99036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8"/>
            <p:cNvSpPr/>
            <p:nvPr/>
          </p:nvSpPr>
          <p:spPr>
            <a:xfrm flipV="1">
              <a:off x="2603520" y="4619160"/>
              <a:ext cx="541440" cy="49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9"/>
            <p:cNvSpPr/>
            <p:nvPr/>
          </p:nvSpPr>
          <p:spPr>
            <a:xfrm flipH="1">
              <a:off x="3706560" y="4295880"/>
              <a:ext cx="47628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 flipH="1" flipV="1">
              <a:off x="4162320" y="4250880"/>
              <a:ext cx="43200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 flipH="1" flipV="1">
              <a:off x="3122640" y="4598640"/>
              <a:ext cx="54144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2"/>
            <p:cNvSpPr/>
            <p:nvPr/>
          </p:nvSpPr>
          <p:spPr>
            <a:xfrm>
              <a:off x="1577880" y="45226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249640" y="430704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4"/>
            <p:cNvSpPr/>
            <p:nvPr/>
          </p:nvSpPr>
          <p:spPr>
            <a:xfrm>
              <a:off x="2595600" y="378612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"/>
            <p:cNvSpPr/>
            <p:nvPr/>
          </p:nvSpPr>
          <p:spPr>
            <a:xfrm>
              <a:off x="2509920" y="49798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6"/>
            <p:cNvSpPr/>
            <p:nvPr/>
          </p:nvSpPr>
          <p:spPr>
            <a:xfrm>
              <a:off x="3030480" y="4460760"/>
              <a:ext cx="225360" cy="22572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573360" y="487368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4049640" y="418140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4462560" y="4745160"/>
              <a:ext cx="225360" cy="22536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20"/>
            <p:cNvSpPr/>
            <p:nvPr/>
          </p:nvSpPr>
          <p:spPr>
            <a:xfrm>
              <a:off x="1116000" y="3630600"/>
              <a:ext cx="4122720" cy="187164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1"/>
            <p:cNvSpPr/>
            <p:nvPr/>
          </p:nvSpPr>
          <p:spPr>
            <a:xfrm>
              <a:off x="4755600" y="5251320"/>
              <a:ext cx="71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22"/>
          <p:cNvSpPr/>
          <p:nvPr/>
        </p:nvSpPr>
        <p:spPr>
          <a:xfrm>
            <a:off x="163800" y="1447920"/>
            <a:ext cx="44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A </a:t>
            </a:r>
            <a:r>
              <a:rPr b="1" i="1" lang="en-US" sz="2400" spc="-1" strike="noStrike">
                <a:solidFill>
                  <a:srgbClr val="008000"/>
                </a:solidFill>
                <a:latin typeface="Arial Unicode MS"/>
              </a:rPr>
              <a:t>Wide-Area Network</a:t>
            </a: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 (W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connects two or more LA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Unicode MS"/>
              </a:rPr>
              <a:t>often over long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4"/>
          <p:cNvGrpSpPr/>
          <p:nvPr/>
        </p:nvGrpSpPr>
        <p:grpSpPr>
          <a:xfrm>
            <a:off x="4968720" y="1422360"/>
            <a:ext cx="2954520" cy="2387880"/>
            <a:chOff x="4968720" y="1422360"/>
            <a:chExt cx="2954520" cy="2387880"/>
          </a:xfrm>
        </p:grpSpPr>
        <p:sp>
          <p:nvSpPr>
            <p:cNvPr id="458" name="Line 25"/>
            <p:cNvSpPr/>
            <p:nvPr/>
          </p:nvSpPr>
          <p:spPr>
            <a:xfrm flipV="1">
              <a:off x="5568840" y="1999440"/>
              <a:ext cx="584280" cy="12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 flipH="1" flipV="1">
              <a:off x="5546520" y="2150640"/>
              <a:ext cx="260280" cy="71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7"/>
            <p:cNvSpPr/>
            <p:nvPr/>
          </p:nvSpPr>
          <p:spPr>
            <a:xfrm>
              <a:off x="6434280" y="2498400"/>
              <a:ext cx="4284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8"/>
            <p:cNvSpPr/>
            <p:nvPr/>
          </p:nvSpPr>
          <p:spPr>
            <a:xfrm flipV="1">
              <a:off x="5807160" y="2498040"/>
              <a:ext cx="649080" cy="38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9"/>
            <p:cNvSpPr/>
            <p:nvPr/>
          </p:nvSpPr>
          <p:spPr>
            <a:xfrm flipH="1">
              <a:off x="7127640" y="1977840"/>
              <a:ext cx="15084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30"/>
            <p:cNvSpPr/>
            <p:nvPr/>
          </p:nvSpPr>
          <p:spPr>
            <a:xfrm flipV="1">
              <a:off x="6477120" y="2606400"/>
              <a:ext cx="650880" cy="56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31"/>
            <p:cNvSpPr/>
            <p:nvPr/>
          </p:nvSpPr>
          <p:spPr>
            <a:xfrm>
              <a:off x="5445000" y="2006280"/>
              <a:ext cx="22572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32"/>
            <p:cNvSpPr/>
            <p:nvPr/>
          </p:nvSpPr>
          <p:spPr>
            <a:xfrm>
              <a:off x="6031080" y="185544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33"/>
            <p:cNvSpPr/>
            <p:nvPr/>
          </p:nvSpPr>
          <p:spPr>
            <a:xfrm>
              <a:off x="5684760" y="274464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4"/>
            <p:cNvSpPr/>
            <p:nvPr/>
          </p:nvSpPr>
          <p:spPr>
            <a:xfrm>
              <a:off x="6357960" y="237636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5"/>
            <p:cNvSpPr/>
            <p:nvPr/>
          </p:nvSpPr>
          <p:spPr>
            <a:xfrm>
              <a:off x="6357960" y="302724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6"/>
            <p:cNvSpPr/>
            <p:nvPr/>
          </p:nvSpPr>
          <p:spPr>
            <a:xfrm>
              <a:off x="7008840" y="248580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7"/>
            <p:cNvSpPr/>
            <p:nvPr/>
          </p:nvSpPr>
          <p:spPr>
            <a:xfrm>
              <a:off x="7183440" y="1858680"/>
              <a:ext cx="225360" cy="225000"/>
            </a:xfrm>
            <a:prstGeom prst="ellipse">
              <a:avLst/>
            </a:prstGeom>
            <a:solidFill>
              <a:srgbClr val="00999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8"/>
            <p:cNvSpPr/>
            <p:nvPr/>
          </p:nvSpPr>
          <p:spPr>
            <a:xfrm>
              <a:off x="4968720" y="1422360"/>
              <a:ext cx="2954520" cy="204444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9"/>
            <p:cNvSpPr/>
            <p:nvPr/>
          </p:nvSpPr>
          <p:spPr>
            <a:xfrm>
              <a:off x="7158960" y="3412800"/>
              <a:ext cx="711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Footer Placeholder 4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AN which spans the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d Internet comes from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rted as a United States government project, sponsored by the Advanced Research Projects Agency (AR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it was called the ARP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et grew quickly throughout the 1980s and 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tocol is a set of rules that determine how things communicat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that manages Internet communication follows a suite of protocol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net Proto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P) determines the format of the information as it is trans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mission Control Protoc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CP) dictates how messages are reassembled and handles los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P and Internet Addr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uter on the Internet has a uniqu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4.192.11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uters also have a unique Internet name, which also is referred to as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net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ctor.vt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nt.gestalt-ll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art indicates a particular compu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main n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dicating the organization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t.ed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part of a domain name,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p-level dom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LD), supposedly indicates the type of organ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2296800" y="2562120"/>
            <a:ext cx="469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edu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educational i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om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ommercial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org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non-profi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net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network-based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722880" y="4114800"/>
            <a:ext cx="31647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ometimes the suf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indicates the coun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uk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u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ustr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a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e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4766760" y="4419720"/>
            <a:ext cx="2855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dditional TLDs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been ad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biz, info, tv,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main name can have several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domain names mean that multiple sites can have individual computers with the same local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ed, an Internet address is translated to an IP address by softwar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main Nam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-to-one correspondence between the sections of an IP address and the sections of an Interne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Wide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many different types of information to be accessed using a commo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w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gram which accesses network resources and presents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r browsers:  Internet Explorer, Safari, Fire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presente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, graphics, video, sound, audio, executabl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document usually contai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ther Web documents, creating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er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Web comes from the fact that information is not organized in a linea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Wide W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ocuments are often defined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erText Markup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T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on the Web is found using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form Resource Lo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R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cn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vt.edu/student_life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tp://java.sun.com/applets/animation.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RL specifies a protocol (http), a domain, and possibly specific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1828800" y="325584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ware and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, tangible parts of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, monitor, disks, wires, c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uter requires both hardware an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s essentially useless without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programming language was created by Sun Microsystem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introduced in 1995 and it's popularity has grown quickly s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ramming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the words and symbols that we can use to write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ming language employs a set of rules that dictate how the words and symbols can be put together to form val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gram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Progra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Java programming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is made up of 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 contains one or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contains progra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erms will be explored in detail throughout the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application always contains a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coln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"/>
          <p:cNvSpPr/>
          <p:nvPr/>
        </p:nvSpPr>
        <p:spPr>
          <a:xfrm>
            <a:off x="647640" y="990720"/>
            <a:ext cx="783396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incol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basic structure of a Java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col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presidential qu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quote by Abraham Lincoln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hatever you are, be a good on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5"/>
          <p:cNvSpPr/>
          <p:nvPr/>
        </p:nvSpPr>
        <p:spPr>
          <a:xfrm>
            <a:off x="647640" y="990720"/>
            <a:ext cx="7833960" cy="411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incol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basic structure of a Java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col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presidential quo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quote by Abraham Lincoln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Whatever you are, be a good one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5"/>
          <p:cNvSpPr/>
          <p:nvPr/>
        </p:nvSpPr>
        <p:spPr>
          <a:xfrm>
            <a:off x="1893960" y="565200"/>
            <a:ext cx="5243400" cy="1402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quote by Abraham Lincol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atever you are, be a goo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Progra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339920" y="16826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339920" y="2063880"/>
            <a:ext cx="333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339920" y="129528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 comments about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5040000" y="2495520"/>
            <a:ext cx="17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lass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2626920" y="356220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lass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3068640" y="472428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omments can be placed almost an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9"/>
          <p:cNvSpPr/>
          <p:nvPr/>
        </p:nvSpPr>
        <p:spPr>
          <a:xfrm>
            <a:off x="2023920" y="221616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0"/>
          <p:cNvSpPr/>
          <p:nvPr/>
        </p:nvSpPr>
        <p:spPr>
          <a:xfrm flipH="1" flipV="1">
            <a:off x="4233960" y="2139840"/>
            <a:ext cx="83808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1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Program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1339920" y="16826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My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1339920" y="2063880"/>
            <a:ext cx="333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339920" y="1295280"/>
            <a:ext cx="44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 comments about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1810800" y="3032280"/>
            <a:ext cx="61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 (String[] ar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1765440" y="348948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1765080" y="2575080"/>
            <a:ext cx="460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 comments about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4"/>
          <p:cNvSpPr/>
          <p:nvPr/>
        </p:nvSpPr>
        <p:spPr>
          <a:xfrm>
            <a:off x="6284520" y="3784680"/>
            <a:ext cx="21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ethod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5"/>
          <p:cNvSpPr/>
          <p:nvPr/>
        </p:nvSpPr>
        <p:spPr>
          <a:xfrm>
            <a:off x="2957400" y="393696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2449440" y="36576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7"/>
          <p:cNvSpPr/>
          <p:nvPr/>
        </p:nvSpPr>
        <p:spPr>
          <a:xfrm flipH="1" flipV="1">
            <a:off x="5497560" y="3429000"/>
            <a:ext cx="838080" cy="4572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29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 should be included to explain the purpose of the program and describe processing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o not affect how a program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comments can take three fo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885240" y="411480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mment runs to the end of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885240" y="480060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*  this comment runs to the termin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symbol, even across line breaks       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840600" y="5730840"/>
            <a:ext cx="53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** this is a </a:t>
            </a:r>
            <a:r>
              <a:rPr b="1" i="1" lang="en-US" sz="2000" spc="-1" strike="noStrike">
                <a:solidFill>
                  <a:srgbClr val="008000"/>
                </a:solidFill>
                <a:latin typeface="Courier New"/>
              </a:rPr>
              <a:t>javadoc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comment  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"words"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ava identifier can be made up of letters, digits, the underscore character ( _ ), and the dollar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s cannot begin with a di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e sen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Total, tota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TO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ifferent ide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, programmers use different case styles for different types of identifiers, such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tle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lass names -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co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pper 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nstants -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 programmer chooses the identifer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co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 are using another programmer's code, so we use the identifiers that he or she chose 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we use special identifier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erved 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lready have a predefined meaning in th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erved word cannot be used in any othe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rved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110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reserved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914040" y="2006640"/>
            <a:ext cx="12823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641320" y="2006640"/>
            <a:ext cx="15566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4530600" y="2006640"/>
            <a:ext cx="14194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ct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330600" y="2006640"/>
            <a:ext cx="183096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nchron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8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PU and Main 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3733920" y="1981080"/>
            <a:ext cx="1523880" cy="3200400"/>
            <a:chOff x="3733920" y="1981080"/>
            <a:chExt cx="1523880" cy="3200400"/>
          </a:xfrm>
        </p:grpSpPr>
        <p:sp>
          <p:nvSpPr>
            <p:cNvPr id="108" name="AutoShape 3"/>
            <p:cNvSpPr/>
            <p:nvPr/>
          </p:nvSpPr>
          <p:spPr>
            <a:xfrm>
              <a:off x="3733920" y="1981080"/>
              <a:ext cx="1523880" cy="914400"/>
            </a:xfrm>
            <a:prstGeom prst="hexagon">
              <a:avLst>
                <a:gd name="adj" fmla="val 32983"/>
                <a:gd name="vf" fmla="val 11547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ent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Un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5"/>
            <p:cNvSpPr/>
            <p:nvPr/>
          </p:nvSpPr>
          <p:spPr>
            <a:xfrm>
              <a:off x="3733920" y="4267080"/>
              <a:ext cx="1523880" cy="914400"/>
            </a:xfrm>
            <a:prstGeom prst="cube">
              <a:avLst>
                <a:gd name="adj" fmla="val 15152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4343400" y="2971440"/>
              <a:ext cx="304560" cy="1219320"/>
            </a:xfrm>
            <a:prstGeom prst="upDownArrow">
              <a:avLst>
                <a:gd name="adj1" fmla="val 50000"/>
                <a:gd name="adj2" fmla="val 7970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7"/>
          <p:cNvSpPr/>
          <p:nvPr/>
        </p:nvSpPr>
        <p:spPr>
          <a:xfrm>
            <a:off x="5791320" y="1959120"/>
            <a:ext cx="2590560" cy="100872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Chip that executes program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228600" y="3657600"/>
            <a:ext cx="2895480" cy="2228400"/>
          </a:xfr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Primary storage area for programs and data that are in activ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ynonymous with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5"/>
          <p:cNvSpPr/>
          <p:nvPr/>
        </p:nvSpPr>
        <p:spPr>
          <a:xfrm>
            <a:off x="380880" y="1219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are valid Java identif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929520" y="1981080"/>
            <a:ext cx="27716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iz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twork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rdTest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_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elves1&amp;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380880" y="1219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ollowing are valid Java identif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4"/>
          <p:cNvSpPr/>
          <p:nvPr/>
        </p:nvSpPr>
        <p:spPr>
          <a:xfrm>
            <a:off x="929520" y="1981080"/>
            <a:ext cx="277164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quiz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twork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rdTest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IN_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elves1&amp;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6"/>
          <p:cNvSpPr/>
          <p:nvPr/>
        </p:nvSpPr>
        <p:spPr>
          <a:xfrm>
            <a:off x="3847320" y="2001960"/>
            <a:ext cx="47494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val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annot begin with a di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val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annot contain the '#'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val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annot contain the '&amp;' chara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te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s, blank lines, and tab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t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space is used to separate words and symbols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white space is ign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id Java program can be formatted many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should be formatted to enhance readability, using consistent ind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Lincoln2.jav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Lincoln3.j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>
            <a:off x="1828800" y="3886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chanics of developing a program include several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the program in a specific programming language (such as 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ng the program into a form that the computer can exec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ng and fixing various types of errors that can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ools can be used to help with all parts of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Lev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four programming language lev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-genera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of CPU has its own specif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ther levels were created to make it easier for a human being to read and writ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of CPU executes only a particul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chin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must be translated into machine language before it can be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oftware tool which transl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urc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pecific targe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that target language is the machine language for a particular CPU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approach is somewhat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compiler translates Java source code into a special representation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bytecode is not the machine language for any traditional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software tool, calle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ranslates bytecode into machine language and execute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Java compiler is not tied to any particular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considered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chitecture-neu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 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2543040" y="2444760"/>
            <a:ext cx="0" cy="5205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"/>
          <p:cNvSpPr/>
          <p:nvPr/>
        </p:nvSpPr>
        <p:spPr>
          <a:xfrm flipV="1">
            <a:off x="3141720" y="2424240"/>
            <a:ext cx="1493640" cy="10173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5"/>
          <p:cNvSpPr/>
          <p:nvPr/>
        </p:nvSpPr>
        <p:spPr>
          <a:xfrm flipH="1">
            <a:off x="4895640" y="2744640"/>
            <a:ext cx="438120" cy="69696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6"/>
          <p:cNvSpPr/>
          <p:nvPr/>
        </p:nvSpPr>
        <p:spPr>
          <a:xfrm>
            <a:off x="5867280" y="2744640"/>
            <a:ext cx="306360" cy="67500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>
            <a:off x="6389640" y="4344840"/>
            <a:ext cx="0" cy="4114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8"/>
          <p:cNvSpPr/>
          <p:nvPr/>
        </p:nvSpPr>
        <p:spPr>
          <a:xfrm>
            <a:off x="1523880" y="1600200"/>
            <a:ext cx="2044800" cy="82548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9"/>
          <p:cNvSpPr/>
          <p:nvPr/>
        </p:nvSpPr>
        <p:spPr>
          <a:xfrm>
            <a:off x="5562720" y="4815000"/>
            <a:ext cx="1601640" cy="82548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0"/>
          <p:cNvSpPr/>
          <p:nvPr/>
        </p:nvSpPr>
        <p:spPr>
          <a:xfrm>
            <a:off x="4686480" y="1960560"/>
            <a:ext cx="1804680" cy="82404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1"/>
          <p:cNvSpPr/>
          <p:nvPr/>
        </p:nvSpPr>
        <p:spPr>
          <a:xfrm>
            <a:off x="4159080" y="3457440"/>
            <a:ext cx="122904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2"/>
          <p:cNvSpPr/>
          <p:nvPr/>
        </p:nvSpPr>
        <p:spPr>
          <a:xfrm>
            <a:off x="5762520" y="3457440"/>
            <a:ext cx="122868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3"/>
          <p:cNvSpPr/>
          <p:nvPr/>
        </p:nvSpPr>
        <p:spPr>
          <a:xfrm>
            <a:off x="1908000" y="3003480"/>
            <a:ext cx="122904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Enviro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programs that support the development of Java software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Development Kit (JD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lip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GR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 the details of these environments differ, the basic compilation and execution process is essential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/ Output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0"/>
          <p:cNvGrpSpPr/>
          <p:nvPr/>
        </p:nvGrpSpPr>
        <p:grpSpPr>
          <a:xfrm>
            <a:off x="3733920" y="1981080"/>
            <a:ext cx="1523880" cy="3200400"/>
            <a:chOff x="3733920" y="1981080"/>
            <a:chExt cx="1523880" cy="3200400"/>
          </a:xfrm>
        </p:grpSpPr>
        <p:sp>
          <p:nvSpPr>
            <p:cNvPr id="116" name="AutoShape 3"/>
            <p:cNvSpPr/>
            <p:nvPr/>
          </p:nvSpPr>
          <p:spPr>
            <a:xfrm>
              <a:off x="3733920" y="1981080"/>
              <a:ext cx="1523880" cy="914400"/>
            </a:xfrm>
            <a:prstGeom prst="hexagon">
              <a:avLst>
                <a:gd name="adj" fmla="val 32983"/>
                <a:gd name="vf" fmla="val 11547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ent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Un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5"/>
            <p:cNvSpPr/>
            <p:nvPr/>
          </p:nvSpPr>
          <p:spPr>
            <a:xfrm>
              <a:off x="3733920" y="4267080"/>
              <a:ext cx="1523880" cy="914400"/>
            </a:xfrm>
            <a:prstGeom prst="cube">
              <a:avLst>
                <a:gd name="adj" fmla="val 15152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6"/>
            <p:cNvSpPr/>
            <p:nvPr/>
          </p:nvSpPr>
          <p:spPr>
            <a:xfrm>
              <a:off x="4343400" y="2971440"/>
              <a:ext cx="304560" cy="1219320"/>
            </a:xfrm>
            <a:prstGeom prst="upDownArrow">
              <a:avLst>
                <a:gd name="adj1" fmla="val 50000"/>
                <a:gd name="adj2" fmla="val 7970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5751360" y="1676520"/>
            <a:ext cx="211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onitor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Key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ouch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722520" y="3733920"/>
            <a:ext cx="280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I/O devices faci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use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6"/>
          <p:cNvGrpSpPr/>
          <p:nvPr/>
        </p:nvGrpSpPr>
        <p:grpSpPr>
          <a:xfrm>
            <a:off x="914400" y="1447920"/>
            <a:ext cx="2934000" cy="2017440"/>
            <a:chOff x="914400" y="1447920"/>
            <a:chExt cx="2934000" cy="2017440"/>
          </a:xfrm>
        </p:grpSpPr>
        <p:sp>
          <p:nvSpPr>
            <p:cNvPr id="123" name="AutoShape 18"/>
            <p:cNvSpPr/>
            <p:nvPr/>
          </p:nvSpPr>
          <p:spPr>
            <a:xfrm rot="16696200">
              <a:off x="3063960" y="160488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9"/>
            <p:cNvSpPr/>
            <p:nvPr/>
          </p:nvSpPr>
          <p:spPr>
            <a:xfrm rot="4510800">
              <a:off x="3141360" y="221004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14" descr="keyboard.png"/>
            <p:cNvPicPr/>
            <p:nvPr/>
          </p:nvPicPr>
          <p:blipFill>
            <a:blip r:embed="rId1"/>
            <a:stretch/>
          </p:blipFill>
          <p:spPr>
            <a:xfrm>
              <a:off x="914400" y="2972160"/>
              <a:ext cx="1925280" cy="4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monitor.png"/>
            <p:cNvPicPr/>
            <p:nvPr/>
          </p:nvPicPr>
          <p:blipFill>
            <a:blip r:embed="rId2"/>
            <a:stretch/>
          </p:blipFill>
          <p:spPr>
            <a:xfrm>
              <a:off x="1371240" y="1447920"/>
              <a:ext cx="126540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tax ru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language define how we can put together symbols, reserved words, and identifiers to make a val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man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program statement define what that statement means (its purpose or role in a progr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that is syntactically correct is not necessarily logically (semantically)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will always do what we tell it to do, not what w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ell it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can have three types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will find syntax errors and other basic problem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ile-time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ompile-time errors exist, an executable version of the program is not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blem can occur during program execution, such as trying to divide by zero, which causes a program to terminate abnormall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-time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may run, but produce incorrect results, perhaps using an incorrect formula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al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Progra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"/>
          <p:cNvSpPr/>
          <p:nvPr/>
        </p:nvSpPr>
        <p:spPr>
          <a:xfrm>
            <a:off x="3124080" y="2362320"/>
            <a:ext cx="304920" cy="6094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5334120" y="3962520"/>
            <a:ext cx="38088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17"/>
          <p:cNvGrpSpPr/>
          <p:nvPr/>
        </p:nvGrpSpPr>
        <p:grpSpPr>
          <a:xfrm>
            <a:off x="3504960" y="2142720"/>
            <a:ext cx="1925640" cy="905400"/>
            <a:chOff x="3504960" y="2142720"/>
            <a:chExt cx="1925640" cy="905400"/>
          </a:xfrm>
        </p:grpSpPr>
        <p:cxnSp>
          <p:nvCxnSpPr>
            <p:cNvPr id="608" name="AutoShape 6"/>
            <p:cNvCxnSpPr/>
            <p:nvPr/>
          </p:nvCxnSpPr>
          <p:spPr>
            <a:xfrm flipV="1" rot="16200000">
              <a:off x="3509640" y="2137680"/>
              <a:ext cx="905760" cy="91512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609" name="Text Box 7"/>
            <p:cNvSpPr/>
            <p:nvPr/>
          </p:nvSpPr>
          <p:spPr>
            <a:xfrm>
              <a:off x="4405680" y="2361960"/>
              <a:ext cx="102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error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6"/>
          <p:cNvGrpSpPr/>
          <p:nvPr/>
        </p:nvGrpSpPr>
        <p:grpSpPr>
          <a:xfrm>
            <a:off x="3504600" y="1761480"/>
            <a:ext cx="4167720" cy="2886480"/>
            <a:chOff x="3504600" y="1761480"/>
            <a:chExt cx="4167720" cy="2886480"/>
          </a:xfrm>
        </p:grpSpPr>
        <p:cxnSp>
          <p:nvCxnSpPr>
            <p:cNvPr id="611" name="AutoShape 9"/>
            <p:cNvCxnSpPr>
              <a:stCxn id="612" idx="0"/>
            </p:cNvCxnSpPr>
            <p:nvPr/>
          </p:nvCxnSpPr>
          <p:spPr>
            <a:xfrm flipV="1" rot="16200000">
              <a:off x="3623760" y="1642320"/>
              <a:ext cx="2886840" cy="3125160"/>
            </a:xfrm>
            <a:prstGeom prst="bentConnector2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613" name="Text Box 10"/>
            <p:cNvSpPr/>
            <p:nvPr/>
          </p:nvSpPr>
          <p:spPr>
            <a:xfrm>
              <a:off x="6647400" y="2981520"/>
              <a:ext cx="102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error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Rectangle 11"/>
          <p:cNvSpPr/>
          <p:nvPr/>
        </p:nvSpPr>
        <p:spPr>
          <a:xfrm>
            <a:off x="914400" y="1447920"/>
            <a:ext cx="259092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di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sav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3124080" y="3048120"/>
            <a:ext cx="259092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Compil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3"/>
          <p:cNvSpPr/>
          <p:nvPr/>
        </p:nvSpPr>
        <p:spPr>
          <a:xfrm>
            <a:off x="5334120" y="4648320"/>
            <a:ext cx="2590560" cy="9302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xecute program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valuat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2669760" y="1293840"/>
            <a:ext cx="507276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va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7"/>
          <p:cNvSpPr/>
          <p:nvPr/>
        </p:nvSpPr>
        <p:spPr>
          <a:xfrm>
            <a:off x="1828800" y="4495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writing a program is to solv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a problem consists of multiple 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lternatives and refine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ctivities are not purely linear – they overlap and inte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to designing a solution is breaking it down into manage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ing software, we design separate pieces that are responsible for certain parts of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ct-oriented appro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nds itself to this kind of solution de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issect our solutions into pieces called object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-Oriented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is an object-oriented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term implies, an object is a fundamental entity in a Jav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can be used effectively to represent real-world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ance, an object might represent a particular employee in 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mployee object handles the processing and data management related to that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h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descriptiv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hav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 what it can do (or what can be done to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a bank account includes its account number and its current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haviors associated with a bank account include the ability to make deposits and withdraw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behavior of an object might change it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defined by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is the blueprint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uses methods to define the behaviors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that contains the main method of a Java program represents the entir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represents a concept, and an object represents the embodiment of that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bjects can be created from the sam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= Bluepr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28600" y="1066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blueprint to create several similar, but different, ho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8"/>
          <p:cNvGrpSpPr/>
          <p:nvPr/>
        </p:nvGrpSpPr>
        <p:grpSpPr>
          <a:xfrm>
            <a:off x="914400" y="2209680"/>
            <a:ext cx="7238880" cy="4038840"/>
            <a:chOff x="914400" y="2209680"/>
            <a:chExt cx="7238880" cy="4038840"/>
          </a:xfrm>
        </p:grpSpPr>
        <p:sp>
          <p:nvSpPr>
            <p:cNvPr id="640" name="TextBox 5"/>
            <p:cNvSpPr/>
            <p:nvPr/>
          </p:nvSpPr>
          <p:spPr>
            <a:xfrm>
              <a:off x="914400" y="2209680"/>
              <a:ext cx="7238880" cy="403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Picture 7" descr="fig01_22.tif"/>
            <p:cNvPicPr/>
            <p:nvPr/>
          </p:nvPicPr>
          <p:blipFill>
            <a:blip r:embed="rId1"/>
            <a:stretch/>
          </p:blipFill>
          <p:spPr>
            <a:xfrm>
              <a:off x="1295280" y="2361960"/>
              <a:ext cx="6041880" cy="3675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ary Memory De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3733920" y="1981080"/>
            <a:ext cx="1523880" cy="3200400"/>
            <a:chOff x="3733920" y="1981080"/>
            <a:chExt cx="1523880" cy="3200400"/>
          </a:xfrm>
        </p:grpSpPr>
        <p:sp>
          <p:nvSpPr>
            <p:cNvPr id="129" name="AutoShape 3"/>
            <p:cNvSpPr/>
            <p:nvPr/>
          </p:nvSpPr>
          <p:spPr>
            <a:xfrm>
              <a:off x="3733920" y="1981080"/>
              <a:ext cx="1523880" cy="914400"/>
            </a:xfrm>
            <a:prstGeom prst="hexagon">
              <a:avLst>
                <a:gd name="adj" fmla="val 32983"/>
                <a:gd name="vf" fmla="val 115470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Cent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Un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5"/>
            <p:cNvSpPr/>
            <p:nvPr/>
          </p:nvSpPr>
          <p:spPr>
            <a:xfrm>
              <a:off x="3733920" y="4267080"/>
              <a:ext cx="1523880" cy="914400"/>
            </a:xfrm>
            <a:prstGeom prst="cube">
              <a:avLst>
                <a:gd name="adj" fmla="val 15152"/>
              </a:avLst>
            </a:prstGeom>
            <a:solidFill>
              <a:srgbClr val="ffcc66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4343400" y="2971440"/>
              <a:ext cx="304560" cy="1219320"/>
            </a:xfrm>
            <a:prstGeom prst="upDownArrow">
              <a:avLst>
                <a:gd name="adj1" fmla="val 50000"/>
                <a:gd name="adj2" fmla="val 79700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5685120" y="1752480"/>
            <a:ext cx="293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Information is 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between mai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econdary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5"/>
          <p:cNvGrpSpPr/>
          <p:nvPr/>
        </p:nvGrpSpPr>
        <p:grpSpPr>
          <a:xfrm>
            <a:off x="5257800" y="3352680"/>
            <a:ext cx="2654280" cy="2685240"/>
            <a:chOff x="5257800" y="3352680"/>
            <a:chExt cx="2654280" cy="2685240"/>
          </a:xfrm>
        </p:grpSpPr>
        <p:pic>
          <p:nvPicPr>
            <p:cNvPr id="135" name="Picture 13" descr="hardDisk.png"/>
            <p:cNvPicPr/>
            <p:nvPr/>
          </p:nvPicPr>
          <p:blipFill>
            <a:blip r:embed="rId1"/>
            <a:stretch/>
          </p:blipFill>
          <p:spPr>
            <a:xfrm>
              <a:off x="6324480" y="3733560"/>
              <a:ext cx="838080" cy="82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4" descr="flashDrive.png"/>
            <p:cNvPicPr/>
            <p:nvPr/>
          </p:nvPicPr>
          <p:blipFill>
            <a:blip r:embed="rId2"/>
            <a:stretch/>
          </p:blipFill>
          <p:spPr>
            <a:xfrm>
              <a:off x="6324480" y="5181840"/>
              <a:ext cx="8319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12"/>
            <p:cNvSpPr/>
            <p:nvPr/>
          </p:nvSpPr>
          <p:spPr>
            <a:xfrm rot="4254000">
              <a:off x="5569200" y="3903120"/>
              <a:ext cx="304560" cy="876240"/>
            </a:xfrm>
            <a:prstGeom prst="upDownArrow">
              <a:avLst>
                <a:gd name="adj1" fmla="val 50000"/>
                <a:gd name="adj2" fmla="val 57275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13"/>
            <p:cNvSpPr/>
            <p:nvPr/>
          </p:nvSpPr>
          <p:spPr>
            <a:xfrm rot="6672000">
              <a:off x="5569200" y="4589280"/>
              <a:ext cx="304560" cy="876240"/>
            </a:xfrm>
            <a:prstGeom prst="upDownArrow">
              <a:avLst>
                <a:gd name="adj1" fmla="val 50000"/>
                <a:gd name="adj2" fmla="val 57275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6016320" y="335268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Hard Di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5753160" y="5639040"/>
              <a:ext cx="21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USB Flash Dr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9"/>
          <p:cNvGrpSpPr/>
          <p:nvPr/>
        </p:nvGrpSpPr>
        <p:grpSpPr>
          <a:xfrm>
            <a:off x="914400" y="1447920"/>
            <a:ext cx="2934000" cy="2017440"/>
            <a:chOff x="914400" y="1447920"/>
            <a:chExt cx="2934000" cy="2017440"/>
          </a:xfrm>
        </p:grpSpPr>
        <p:sp>
          <p:nvSpPr>
            <p:cNvPr id="142" name="AutoShape 18"/>
            <p:cNvSpPr/>
            <p:nvPr/>
          </p:nvSpPr>
          <p:spPr>
            <a:xfrm rot="16696200">
              <a:off x="3063960" y="160488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 rot="4510800">
              <a:off x="3141360" y="2210040"/>
              <a:ext cx="304560" cy="1066680"/>
            </a:xfrm>
            <a:prstGeom prst="upArrow">
              <a:avLst>
                <a:gd name="adj1" fmla="val 50000"/>
                <a:gd name="adj2" fmla="val 87559"/>
              </a:avLst>
            </a:prstGeom>
            <a:solidFill>
              <a:srgbClr val="ff33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22" descr="keyboard.png"/>
            <p:cNvPicPr/>
            <p:nvPr/>
          </p:nvPicPr>
          <p:blipFill>
            <a:blip r:embed="rId3"/>
            <a:stretch/>
          </p:blipFill>
          <p:spPr>
            <a:xfrm>
              <a:off x="914400" y="2972160"/>
              <a:ext cx="1925280" cy="4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3" descr="monitor.png"/>
            <p:cNvPicPr/>
            <p:nvPr/>
          </p:nvPicPr>
          <p:blipFill>
            <a:blip r:embed="rId4"/>
            <a:stretch/>
          </p:blipFill>
          <p:spPr>
            <a:xfrm>
              <a:off x="1371240" y="1447920"/>
              <a:ext cx="126540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Text Box 14"/>
          <p:cNvSpPr/>
          <p:nvPr/>
        </p:nvSpPr>
        <p:spPr>
          <a:xfrm>
            <a:off x="651600" y="4495680"/>
            <a:ext cx="263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Secondary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devices pro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long-term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13"/>
          <p:cNvGrpSpPr/>
          <p:nvPr/>
        </p:nvGrpSpPr>
        <p:grpSpPr>
          <a:xfrm>
            <a:off x="1752480" y="1887480"/>
            <a:ext cx="2384640" cy="1741320"/>
            <a:chOff x="1752480" y="1887480"/>
            <a:chExt cx="2384640" cy="1741320"/>
          </a:xfrm>
        </p:grpSpPr>
        <p:sp>
          <p:nvSpPr>
            <p:cNvPr id="644" name="Oval 4"/>
            <p:cNvSpPr/>
            <p:nvPr/>
          </p:nvSpPr>
          <p:spPr>
            <a:xfrm>
              <a:off x="1752480" y="3107880"/>
              <a:ext cx="2384640" cy="52092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nk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5"/>
            <p:cNvSpPr/>
            <p:nvPr/>
          </p:nvSpPr>
          <p:spPr>
            <a:xfrm>
              <a:off x="1993320" y="1887480"/>
              <a:ext cx="1857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 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(the concep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14"/>
          <p:cNvGrpSpPr/>
          <p:nvPr/>
        </p:nvGrpSpPr>
        <p:grpSpPr>
          <a:xfrm>
            <a:off x="4876920" y="1587600"/>
            <a:ext cx="2790720" cy="1803960"/>
            <a:chOff x="4876920" y="1587600"/>
            <a:chExt cx="2790720" cy="1803960"/>
          </a:xfrm>
        </p:grpSpPr>
        <p:sp>
          <p:nvSpPr>
            <p:cNvPr id="647" name="Rectangle 7"/>
            <p:cNvSpPr/>
            <p:nvPr/>
          </p:nvSpPr>
          <p:spPr>
            <a:xfrm>
              <a:off x="4876920" y="2748960"/>
              <a:ext cx="2790720" cy="64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John’s Bank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lance: $5,25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8"/>
            <p:cNvSpPr/>
            <p:nvPr/>
          </p:nvSpPr>
          <p:spPr>
            <a:xfrm>
              <a:off x="5195880" y="1587600"/>
              <a:ext cx="221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An 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(the realizatio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7"/>
          <p:cNvGrpSpPr/>
          <p:nvPr/>
        </p:nvGrpSpPr>
        <p:grpSpPr>
          <a:xfrm>
            <a:off x="1525680" y="3696480"/>
            <a:ext cx="6141960" cy="1676160"/>
            <a:chOff x="1525680" y="3696480"/>
            <a:chExt cx="6141960" cy="1676160"/>
          </a:xfrm>
        </p:grpSpPr>
        <p:grpSp>
          <p:nvGrpSpPr>
            <p:cNvPr id="650" name="Group 9"/>
            <p:cNvGrpSpPr/>
            <p:nvPr/>
          </p:nvGrpSpPr>
          <p:grpSpPr>
            <a:xfrm>
              <a:off x="1525680" y="3696480"/>
              <a:ext cx="6141960" cy="1676160"/>
              <a:chOff x="1525680" y="3696480"/>
              <a:chExt cx="6141960" cy="1676160"/>
            </a:xfrm>
          </p:grpSpPr>
          <p:sp>
            <p:nvSpPr>
              <p:cNvPr id="651" name="Rectangle 10"/>
              <p:cNvSpPr/>
              <p:nvPr/>
            </p:nvSpPr>
            <p:spPr>
              <a:xfrm>
                <a:off x="4876920" y="3696480"/>
                <a:ext cx="2790720" cy="64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ill’s Bank Accou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alance: $1,245,06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1"/>
              <p:cNvSpPr/>
              <p:nvPr/>
            </p:nvSpPr>
            <p:spPr>
              <a:xfrm>
                <a:off x="4876920" y="4730040"/>
                <a:ext cx="2790720" cy="642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Mary’s Bank Accou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Balance: $16,8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12"/>
              <p:cNvSpPr/>
              <p:nvPr/>
            </p:nvSpPr>
            <p:spPr>
              <a:xfrm>
                <a:off x="1525680" y="4238640"/>
                <a:ext cx="2724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Unicode MS"/>
                  </a:rPr>
                  <a:t>Multiple objec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Unicode MS"/>
                  </a:rPr>
                  <a:t>from the same cla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Line 15"/>
            <p:cNvSpPr/>
            <p:nvPr/>
          </p:nvSpPr>
          <p:spPr>
            <a:xfrm flipV="1">
              <a:off x="4114800" y="4343040"/>
              <a:ext cx="4572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16"/>
            <p:cNvSpPr/>
            <p:nvPr/>
          </p:nvSpPr>
          <p:spPr>
            <a:xfrm>
              <a:off x="4114800" y="44956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lass can be used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other vi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can be organized into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"/>
          <p:cNvGrpSpPr/>
          <p:nvPr/>
        </p:nvGrpSpPr>
        <p:grpSpPr>
          <a:xfrm>
            <a:off x="1219320" y="3020400"/>
            <a:ext cx="6629400" cy="3317040"/>
            <a:chOff x="1219320" y="3020400"/>
            <a:chExt cx="6629400" cy="3317040"/>
          </a:xfrm>
        </p:grpSpPr>
        <p:sp>
          <p:nvSpPr>
            <p:cNvPr id="660" name="Oval 5"/>
            <p:cNvSpPr/>
            <p:nvPr/>
          </p:nvSpPr>
          <p:spPr>
            <a:xfrm>
              <a:off x="4343400" y="3981600"/>
              <a:ext cx="220968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nk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2514600" y="3020400"/>
              <a:ext cx="2773440" cy="52020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1219320" y="3976920"/>
              <a:ext cx="220968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harge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3124080" y="5425200"/>
              <a:ext cx="221004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avings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5562720" y="5429160"/>
              <a:ext cx="2286000" cy="908280"/>
            </a:xfrm>
            <a:prstGeom prst="ellipse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hecking Acco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AutoShape 10"/>
            <p:cNvCxnSpPr>
              <a:stCxn id="662" idx="0"/>
              <a:endCxn id="661" idx="4"/>
            </p:cNvCxnSpPr>
            <p:nvPr/>
          </p:nvCxnSpPr>
          <p:spPr>
            <a:xfrm flipH="1" flipV="1" rot="5400000">
              <a:off x="2872800" y="2971080"/>
              <a:ext cx="480240" cy="1578600"/>
            </a:xfrm>
            <a:prstGeom prst="bentConnector3">
              <a:avLst>
                <a:gd name="adj1" fmla="val 49962"/>
              </a:avLst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666" name="AutoShape 11"/>
            <p:cNvCxnSpPr>
              <a:stCxn id="660" idx="0"/>
              <a:endCxn id="661" idx="4"/>
            </p:cNvCxnSpPr>
            <p:nvPr/>
          </p:nvCxnSpPr>
          <p:spPr>
            <a:xfrm flipV="1" rot="16200000">
              <a:off x="4432320" y="2989080"/>
              <a:ext cx="484920" cy="1546920"/>
            </a:xfrm>
            <a:prstGeom prst="bentConnector3">
              <a:avLst>
                <a:gd name="adj1" fmla="val 49777"/>
              </a:avLst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667" name="AutoShape 12"/>
            <p:cNvCxnSpPr>
              <a:stCxn id="663" idx="0"/>
              <a:endCxn id="660" idx="4"/>
            </p:cNvCxnSpPr>
            <p:nvPr/>
          </p:nvCxnSpPr>
          <p:spPr>
            <a:xfrm flipH="1" flipV="1" rot="5400000">
              <a:off x="4546080" y="4547520"/>
              <a:ext cx="585360" cy="1219680"/>
            </a:xfrm>
            <a:prstGeom prst="bentConnector3">
              <a:avLst>
                <a:gd name="adj1" fmla="val 49969"/>
              </a:avLst>
            </a:prstGeom>
            <a:ln w="19080">
              <a:solidFill>
                <a:srgbClr val="ff0000"/>
              </a:solidFill>
              <a:miter/>
            </a:ln>
          </p:spPr>
        </p:cxnSp>
        <p:cxnSp>
          <p:nvCxnSpPr>
            <p:cNvPr id="668" name="AutoShape 13"/>
            <p:cNvCxnSpPr>
              <a:stCxn id="664" idx="0"/>
              <a:endCxn id="660" idx="4"/>
            </p:cNvCxnSpPr>
            <p:nvPr/>
          </p:nvCxnSpPr>
          <p:spPr>
            <a:xfrm flipV="1" rot="16200000">
              <a:off x="5782320" y="4529520"/>
              <a:ext cx="588600" cy="12582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0000"/>
              </a:solidFill>
              <a:miter/>
            </a:ln>
          </p:spPr>
        </p:cxnSp>
      </p:grpSp>
      <p:sp>
        <p:nvSpPr>
          <p:cNvPr id="669" name="Footer Placeholder 1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ose component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mputers store and manipulat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and the World Wid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and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view of object-oriente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all machin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he user interface to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s resources such as the CPU an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, Mac OS, Unix, Linu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erm for any other kind of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processors, missile control systems,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perating systems and application programs hav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phical user 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U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16:14Z</dcterms:created>
  <dc:creator>usnidem</dc:creator>
  <dc:description/>
  <dc:language>en-US</dc:language>
  <cp:lastModifiedBy>Noreen Elliott</cp:lastModifiedBy>
  <dcterms:modified xsi:type="dcterms:W3CDTF">2013-08-12T20:16:30Z</dcterms:modified>
  <cp:revision>23</cp:revision>
  <dc:subject/>
  <dc:title>Chapter #, Title</dc:title>
</cp:coreProperties>
</file>